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1119-F92E-44AB-B93C-5D900D901F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479F-E02A-40EC-B143-9440497DEA27}" type="slidenum"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E9D-DC59-4EED-AC6F-18A38E4D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438-738C-4753-839F-5C5DE894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9FF-0EF6-4CBE-BB56-3C3000D0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D3F-4ED7-4E3B-84D2-F0661710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49B7-C29C-4C21-A3B7-E0471B53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D440-3A3D-4D91-BC9D-DD3D98F8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ADF2-E3B5-4E74-8CE6-99616304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D8C8-E37B-4CDD-AFD3-52A8ADEE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09B1-440E-46E9-9440-92EE2E42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B034-8433-4966-9749-AC851B2C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C263-5356-4400-8836-77DC076F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032-E613-4F6E-9207-CAC14958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28C5-FAB8-4790-BEDE-7D75635F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9FB6-2A32-4176-958C-DD0F2185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64C5-18EA-466A-9021-A7D98AAB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3E2E-A866-4BD6-8594-128664DD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B0F6-4925-4ED2-8CFA-EF09D311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DD0-1D0B-417E-BE45-6C7AB516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F9C-FBD9-4817-BF74-8640421E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65C-C6BE-43F3-A488-27A84B8A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3E5-933A-4C33-8981-A0081BC2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9F1-C65E-450F-9B42-E17ECC2C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50F-F16D-46F2-AD31-6F859670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16F-4998-4A82-A667-A5E6F4DD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1670-A4A3-4F7A-9E74-FE7636C67F2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C401-44E0-4B4F-B093-C1DD3D4C30C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Naslov 1"/>
          <p:cNvSpPr/>
          <p:nvPr/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hr-HR" sz="3600" spc="-1" strike="noStrike">
                <a:solidFill>
                  <a:srgbClr val="ffffcc"/>
                </a:solidFill>
                <a:latin typeface="Calibri"/>
              </a:rPr>
              <a:t>EU </a:t>
            </a:r>
            <a:r>
              <a:rPr b="1" lang="en-US" sz="3600" spc="-1" strike="noStrike">
                <a:solidFill>
                  <a:srgbClr val="ffffcc"/>
                </a:solidFill>
                <a:latin typeface="Calibri"/>
              </a:rPr>
              <a:t>PROGRAM </a:t>
            </a:r>
            <a:r>
              <a:rPr b="1" lang="en-GB" sz="3600" spc="-1" strike="noStrike">
                <a:solidFill>
                  <a:srgbClr val="ffffcc"/>
                </a:solidFill>
                <a:latin typeface="Calibri"/>
              </a:rPr>
              <a:t>PODRŠK</a:t>
            </a:r>
            <a:r>
              <a:rPr b="1" lang="hr-HR" sz="3600" spc="-1" strike="noStrike">
                <a:solidFill>
                  <a:srgbClr val="ffffcc"/>
                </a:solidFill>
                <a:latin typeface="Calibri"/>
              </a:rPr>
              <a:t>E</a:t>
            </a:r>
            <a:r>
              <a:rPr b="1" lang="en-GB" sz="3600" spc="-1" strike="noStrike">
                <a:solidFill>
                  <a:srgbClr val="ffffcc"/>
                </a:solidFill>
                <a:latin typeface="Calibri"/>
              </a:rPr>
              <a:t> CIVILNOM DRU</a:t>
            </a:r>
            <a:r>
              <a:rPr b="1" lang="hr-HR" sz="3600" spc="-1" strike="noStrike">
                <a:solidFill>
                  <a:srgbClr val="ffffcc"/>
                </a:solidFill>
                <a:latin typeface="Calibri"/>
              </a:rPr>
              <a:t>ŠTVU </a:t>
            </a:r>
            <a:r>
              <a:rPr b="1" lang="en-GB" sz="3600" spc="-1" strike="noStrike">
                <a:solidFill>
                  <a:srgbClr val="ffffcc"/>
                </a:solidFill>
                <a:latin typeface="Calibri"/>
              </a:rPr>
              <a:t>U SRBIJ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odnaslov 2"/>
          <p:cNvSpPr/>
          <p:nvPr/>
        </p:nvSpPr>
        <p:spPr>
          <a:xfrm>
            <a:off x="1333440" y="3962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905120"/>
            <a:ext cx="8420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Verdana"/>
              </a:rPr>
              <a:t>Učestvuju u pripremi i sprovođenju projekta, a njihovi troškovi se ostvaruju pod jednakim uslovima kao i oni na koje prava ima aplikant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Verdana"/>
              </a:rPr>
              <a:t>Mora da zadovolji iste kriterijume prijave kao i aplikant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cc"/>
                </a:solidFill>
                <a:latin typeface="Verdana"/>
              </a:rPr>
              <a:t>Ko-aplikanti moraju potpisati "Mandate" Aneks A.2 (odeljak 4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Verdana"/>
              </a:rPr>
              <a:t>Uz već navedene uslove, ko-aplikanti još mogu da budu 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i 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- </a:t>
            </a:r>
            <a:r>
              <a:rPr b="0" lang="hr-HR" sz="2200" spc="-1" strike="noStrike">
                <a:solidFill>
                  <a:srgbClr val="ffffcc"/>
                </a:solidFill>
                <a:latin typeface="Verdana"/>
              </a:rPr>
              <a:t>Medijske kuće ( štampani, elektronski i onlajn </a:t>
            </a:r>
            <a:r>
              <a:rPr b="0" lang="hr-HR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hr-HR" sz="2200" spc="-1" strike="noStrike">
                <a:solidFill>
                  <a:srgbClr val="ffffcc"/>
                </a:solidFill>
                <a:latin typeface="Verdana"/>
              </a:rPr>
              <a:t>mediji, </a:t>
            </a:r>
            <a:r>
              <a:rPr b="0" lang="en-GB" sz="2200" spc="-1" strike="noStrike">
                <a:solidFill>
                  <a:srgbClr val="ffffcc"/>
                </a:solidFill>
                <a:latin typeface="Verdana"/>
              </a:rPr>
              <a:t>medijske produkcijske ku</a:t>
            </a:r>
            <a:r>
              <a:rPr b="0" lang="hr-HR" sz="2200" spc="-1" strike="noStrike">
                <a:solidFill>
                  <a:srgbClr val="ffffcc"/>
                </a:solidFill>
                <a:latin typeface="Verdana"/>
              </a:rPr>
              <a:t>će, novinske agencije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hr-HR" sz="2200" spc="-1" strike="noStrike">
                <a:solidFill>
                  <a:srgbClr val="ffffcc"/>
                </a:solidFill>
                <a:latin typeface="Verdana"/>
              </a:rPr>
              <a:t>- Nezavisna tela koja se bave temama od </a:t>
            </a:r>
            <a:r>
              <a:rPr b="0" lang="hr-HR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hr-HR" sz="22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hr-HR" sz="2200" spc="-1" strike="noStrike">
                <a:solidFill>
                  <a:srgbClr val="ffffcc"/>
                </a:solidFill>
                <a:latin typeface="Verdana"/>
              </a:rPr>
              <a:t>značaja za ovaj Konku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03644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Verdana"/>
              </a:rPr>
              <a:t>KO-APLIKAN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560" y="27432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Aplikant i ko-aplikant mogu da sprovode projekat sa pridruženim licem(ima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Isključivo lica između kojih postoji strukturalna veza, tj. pravna ili kapitalna povezano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Pridruženo lice mora da zadovolji uslove prijave kao i aplikant i ko-aplik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Verdana"/>
              </a:rPr>
              <a:t>PRIDRUŽEN</a:t>
            </a:r>
            <a:r>
              <a:rPr b="0" lang="hr-HR" sz="4000" spc="-1" strike="noStrike">
                <a:solidFill>
                  <a:srgbClr val="ffffcc"/>
                </a:solidFill>
                <a:latin typeface="Verdana"/>
              </a:rPr>
              <a:t>A</a:t>
            </a:r>
            <a:r>
              <a:rPr b="0" lang="en-GB" sz="4000" spc="-1" strike="noStrike">
                <a:solidFill>
                  <a:srgbClr val="ffffcc"/>
                </a:solidFill>
                <a:latin typeface="Verdana"/>
              </a:rPr>
              <a:t> LIC</a:t>
            </a:r>
            <a:r>
              <a:rPr b="0" lang="hr-HR" sz="4000" spc="-1" strike="noStrike">
                <a:solidFill>
                  <a:srgbClr val="ffffcc"/>
                </a:solidFill>
                <a:latin typeface="Verdana"/>
              </a:rPr>
              <a:t>A</a:t>
            </a:r>
            <a:br>
              <a:rPr sz="4000"/>
            </a:br>
            <a:r>
              <a:rPr b="0" lang="hr-HR" sz="3600" spc="-1" strike="noStrike">
                <a:solidFill>
                  <a:srgbClr val="ffffcc"/>
                </a:solidFill>
                <a:latin typeface="Verdana"/>
              </a:rPr>
              <a:t>(eng. Affiliated entities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04560" y="27432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Ova strukturna veza uglavnom podrazumeva dva pojma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(i) 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Kontrolu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la koja, direktno ili indirektno, kontroliše korisnik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ela koja, direktno ili indirektno, kontrolišu korisnika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T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ela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koja su predmet iste direktne ili indirektne kontrole kao i korisnik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Verdana"/>
              </a:rPr>
              <a:t>PRIDRUŽEN</a:t>
            </a:r>
            <a:r>
              <a:rPr b="0" lang="hr-HR" sz="4000" spc="-1" strike="noStrike">
                <a:solidFill>
                  <a:srgbClr val="ffffcc"/>
                </a:solidFill>
                <a:latin typeface="Verdana"/>
              </a:rPr>
              <a:t>A</a:t>
            </a:r>
            <a:r>
              <a:rPr b="0" lang="en-GB" sz="4000" spc="-1" strike="noStrike">
                <a:solidFill>
                  <a:srgbClr val="ffffcc"/>
                </a:solidFill>
                <a:latin typeface="Verdana"/>
              </a:rPr>
              <a:t> LIC</a:t>
            </a:r>
            <a:r>
              <a:rPr b="0" lang="hr-HR" sz="4000" spc="-1" strike="noStrike">
                <a:solidFill>
                  <a:srgbClr val="ffffcc"/>
                </a:solidFill>
                <a:latin typeface="Verdana"/>
              </a:rPr>
              <a:t>A</a:t>
            </a:r>
            <a:br>
              <a:rPr sz="4000"/>
            </a:br>
            <a:r>
              <a:rPr b="0" lang="hr-HR" sz="3600" spc="-1" strike="noStrike">
                <a:solidFill>
                  <a:srgbClr val="ffffcc"/>
                </a:solidFill>
                <a:latin typeface="Verdana"/>
              </a:rPr>
              <a:t>(eng. Affiliated entities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560" y="27432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(ii)Članstvo, tj. korisnik je zakonski definisan kao npr. mreža, savez, udruženje u kome predložena povezana tela takođe učestvuju ili korisnik učestvuje u istom telu (npr. mreža, savez, udruženje) kao i predložena povezana tel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PRIDRUŽEN</a:t>
            </a: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LIC</a:t>
            </a: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A</a:t>
            </a:r>
            <a:br>
              <a:rPr sz="4000"/>
            </a:br>
            <a:r>
              <a:rPr b="0" lang="hr-HR" sz="3600" spc="-1" strike="noStrike">
                <a:solidFill>
                  <a:srgbClr val="ffffcc"/>
                </a:solidFill>
                <a:latin typeface="Arial"/>
              </a:rPr>
              <a:t>(eng. Affiliated entities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2819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aradnici (</a:t>
            </a:r>
            <a:r>
              <a:rPr b="0" i="1" lang="en-US" sz="2400" spc="-1" strike="noStrike">
                <a:solidFill>
                  <a:srgbClr val="ffffcc"/>
                </a:solidFill>
                <a:latin typeface="Verdana"/>
              </a:rPr>
              <a:t>eng. Associates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) – druge organizacije koje mogu biti uključene u akciju, ali ne mogu 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biti finansijski podržane iz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sredst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va granta, 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sa izuzetkom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troškova putovanja i dnevnic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e moraju da zadovolje kriterijume za prijavu, ali moraju da budu predstavljeni u Delu 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A.2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, sekcija 6 formulara za prijavu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Verdana"/>
              </a:rPr>
              <a:t>SARADNICI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2895480"/>
            <a:ext cx="82296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orisnici granta, kao i njihova pridružena lica mogu da dodeljuju ugovore za radove, robu i usluge izvođačima (</a:t>
            </a:r>
            <a:r>
              <a:rPr b="0" i="1" lang="en-US" sz="2800" spc="-1" strike="noStrike">
                <a:solidFill>
                  <a:srgbClr val="ffffcc"/>
                </a:solidFill>
                <a:latin typeface="Verdana"/>
              </a:rPr>
              <a:t>eng. Contractors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) pod uslovima za nabavku propisanim u Dodatku IV grant ugovor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aradnici i pridružena lica </a:t>
            </a: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NE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mogu da budu i izvođači u okviru projekt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Verdana"/>
              </a:rPr>
              <a:t>IZVOĐAČI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Minimum</a:t>
            </a:r>
            <a:r>
              <a:rPr b="0" lang="hr-HR" sz="3200" spc="-1" strike="noStrike">
                <a:solidFill>
                  <a:srgbClr val="ffffcc"/>
                </a:solidFill>
                <a:latin typeface="Verdana"/>
              </a:rPr>
              <a:t>:</a:t>
            </a: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sr-Latn-CS" sz="3200" spc="-1" strike="noStrike">
                <a:solidFill>
                  <a:srgbClr val="ffffcc"/>
                </a:solidFill>
                <a:latin typeface="Verdana"/>
              </a:rPr>
              <a:t>12</a:t>
            </a: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 mese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Ma</a:t>
            </a:r>
            <a:r>
              <a:rPr b="0" lang="sr-Latn-CS" sz="3200" spc="-1" strike="noStrike">
                <a:solidFill>
                  <a:srgbClr val="ffffcc"/>
                </a:solidFill>
                <a:latin typeface="Verdana"/>
              </a:rPr>
              <a:t>ks</a:t>
            </a: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imum</a:t>
            </a:r>
            <a:r>
              <a:rPr b="0" lang="hr-HR" sz="3200" spc="-1" strike="noStrike">
                <a:solidFill>
                  <a:srgbClr val="ffffcc"/>
                </a:solidFill>
                <a:latin typeface="Verdana"/>
              </a:rPr>
              <a:t>:</a:t>
            </a: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sr-Latn-CS" sz="3200" spc="-1" strike="noStrike">
                <a:solidFill>
                  <a:srgbClr val="ffffcc"/>
                </a:solidFill>
                <a:latin typeface="Verdana"/>
              </a:rPr>
              <a:t> 48</a:t>
            </a: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 mesec</a:t>
            </a:r>
            <a:r>
              <a:rPr b="0" lang="hr-HR" sz="32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Verdana"/>
              </a:rPr>
              <a:t>DOZVOLJENO TRAJANJE PROJEKT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Verdana"/>
              </a:rPr>
              <a:t>Aktivnosti se moraju sprovoditi u Republici Srbiji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Verdana"/>
              </a:rPr>
              <a:t>MESTO REALIZACIJE PROJEKT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0520" y="20574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Tema 1: Inicijative usmerene na Poglavlja 23 i 24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Verdana"/>
              </a:rPr>
              <a:t>P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ristup pravd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Borba protiv diskriminaci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Verdana"/>
              </a:rPr>
              <a:t>Borba protiv korupci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Verdana"/>
              </a:rPr>
              <a:t>Sloboda izražavanja i medijski pluraliz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cc"/>
                </a:solidFill>
                <a:latin typeface="Verdana"/>
              </a:rPr>
              <a:t>TEME KONKUR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0520" y="20574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Tema 2 : Regionalna saradn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Dobrosusedski odnosi i regionaln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o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pomirenj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Tema 3 :Učešće organizacija civilnog društva u pregovaračkom procesu sa EU i praćenje javnih politi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Konsultacije civilnog društva i države u procesu pregovaranja sa E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Dijalog civilnog društva i države vezano za procese  reform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cc"/>
                </a:solidFill>
                <a:latin typeface="Verdana"/>
              </a:rPr>
              <a:t>TEME KONKUR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80880" y="2136600"/>
            <a:ext cx="8534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Disclaim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This presentation represents summary and an unofficial translation of published Guidel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In the case of any discrepancy between the Serbian and English version, the English version shall prevail and is to be considered as legally binding doc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The version in Serbian is provided for information purpose only and cannot be considered as part of the call for propos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33520" y="28954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zgradnj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a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kapaciteta organizacij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a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civilnog društva u pojedinim sektorima / temama relevantnim za ovaj pozi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Direktna pomoć kroz mreže za pružanje podrške žrtvama / svedocima / učesni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cima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u krivičnom postup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Akcije 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usmerene 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na procesne garancije za 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zaštitu ljudskih prava u skladu sa standardima 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cc"/>
                </a:solidFill>
                <a:latin typeface="Verdana"/>
              </a:rPr>
              <a:t>VRSTE PROJEKATA ( TYPE OF ACTIONS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533520" y="2971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Direktn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a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podršku l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icima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i grupama koje su više izložene diskriminaciji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M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igrant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, 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azilanti, 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osob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vraćen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u 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        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postupku readmisije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,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LGBTI, osobe sa HIV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-om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/AIDS-om, osobe sa invaliditetom  i dec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a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iz ugroženih kategor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cc"/>
                </a:solidFill>
                <a:latin typeface="Verdana"/>
              </a:rPr>
              <a:t>VRSTE PROJEKAT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33520" y="2971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Verdana"/>
              </a:rPr>
              <a:t>A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ktivnosti 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 usmerene 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na borbu protiv korupcije u oblastima kao što su zdravstvo, obrazovanje, prav</a:t>
            </a:r>
            <a:r>
              <a:rPr b="0" lang="en-GB" sz="2800" spc="-1" strike="noStrike">
                <a:solidFill>
                  <a:srgbClr val="ffffcc"/>
                </a:solidFill>
                <a:latin typeface="Verdana"/>
              </a:rPr>
              <a:t>osu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đe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i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 građevina</a:t>
            </a:r>
            <a:r>
              <a:rPr b="0" lang="en-GB" sz="2800" spc="-1" strike="noStrike">
                <a:solidFill>
                  <a:srgbClr val="ffffcc"/>
                </a:solidFill>
                <a:latin typeface="Verdana"/>
              </a:rPr>
              <a:t>rstv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P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odršk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a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praćenj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u 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Zakona o 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zaštiti uzbunjivača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 radi 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efikasn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ije 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borb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protiv korupci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cc"/>
                </a:solidFill>
                <a:latin typeface="Verdana"/>
              </a:rPr>
              <a:t>VRSTE PROJEKAT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533520" y="2971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Podrška  radu m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edij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skih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koalici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ja 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za praćenje slobode izražavanja i medijskog pluraliz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Praćenje 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primene 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profesionalnih novinarskih standarda 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vezano za  poštovanje pretpostavke nevinosti i privatnosti podataka o ličnosti u izveštavanj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cc"/>
                </a:solidFill>
                <a:latin typeface="Verdana"/>
              </a:rPr>
              <a:t>VRSTE PROJEKAT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2971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nicijativ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koje 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promoviš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u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kulturnu raznolikost, međuetničk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dijalog i pomirenj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u regio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cc"/>
                </a:solidFill>
                <a:latin typeface="Verdana"/>
              </a:rPr>
              <a:t>VRSTE PROJEKAT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2971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D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ijalog  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države 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i civilnog društva 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na teme koje su predmet ovog Konkur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Jačanje mreža za učešće civilnog društva u procesu pregovaranja sa 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Verdana"/>
              </a:rPr>
              <a:t>Jačanje kapaciteta lokalnih organizacija u oblastima koje su teme ovog Konkursa kroz dodelu malih granto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cc"/>
                </a:solidFill>
                <a:latin typeface="Verdana"/>
              </a:rPr>
              <a:t>VRSTE PROJEKAT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2438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Verdana"/>
              </a:rPr>
              <a:t>Troškovi promot</a:t>
            </a:r>
            <a:r>
              <a:rPr b="0" lang="hr-HR" sz="26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ffffcc"/>
                </a:solidFill>
                <a:latin typeface="Verdana"/>
              </a:rPr>
              <a:t>vnih aktivnosti (eng. Visibility) moraju da budu uključeni u budžet akcij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Verdana"/>
              </a:rPr>
              <a:t>Više informacija o ovim zahtevima http://ec.europa.eu/europeaid/funding/communication-and-visibility-manual-eu-external-actions_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DOZVOLJEN</a:t>
            </a:r>
            <a:r>
              <a:rPr b="0" lang="sr-Latn-CS" sz="3600" spc="-1" strike="noStrike">
                <a:solidFill>
                  <a:srgbClr val="ffffcc"/>
                </a:solidFill>
                <a:latin typeface="Arial"/>
              </a:rPr>
              <a:t>E VRSTE</a:t>
            </a: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 AK</a:t>
            </a:r>
            <a:r>
              <a:rPr b="0" lang="hr-HR" sz="3600" spc="-1" strike="noStrike">
                <a:solidFill>
                  <a:srgbClr val="ffffcc"/>
                </a:solidFill>
                <a:latin typeface="Arial"/>
              </a:rPr>
              <a:t>CIJ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0880" y="2819160"/>
            <a:ext cx="8229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ffffcc"/>
                </a:solidFill>
                <a:latin typeface="Verdana"/>
              </a:rPr>
              <a:t>Akcije koje se sastoje samo ili pretežno od individualnog sponzorstva za učestvovanje u radionicama, seminarima, konferencijama i kongresim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ffffcc"/>
                </a:solidFill>
                <a:latin typeface="Verdana"/>
              </a:rPr>
              <a:t>Akcije koje se sastoje samo ili pretežno od individualnih stipendija za studiranje ili kurseve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ffffcc"/>
                </a:solidFill>
                <a:latin typeface="Verdana"/>
              </a:rPr>
              <a:t>Akcije primarno usmerene na aktivnosti izgradnje objekata, nabavku opreme, nabavku i/ili renoviranje zgrada i kancelarija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ffffcc"/>
                </a:solidFill>
                <a:latin typeface="Verdana"/>
              </a:rPr>
              <a:t>Akcije usmerene primarno na davanja i donacije, kao i one profitnog usmerenja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ffffcc"/>
                </a:solidFill>
                <a:latin typeface="Verdana"/>
              </a:rPr>
              <a:t>Akcije koje su već finan</a:t>
            </a:r>
            <a:r>
              <a:rPr b="0" lang="hr-HR" sz="2200" spc="-1" strike="noStrike">
                <a:solidFill>
                  <a:srgbClr val="ffffcc"/>
                </a:solidFill>
                <a:latin typeface="Verdana"/>
              </a:rPr>
              <a:t>s</a:t>
            </a:r>
            <a:r>
              <a:rPr b="0" lang="vi-VN" sz="2200" spc="-1" strike="noStrike">
                <a:solidFill>
                  <a:srgbClr val="ffffcc"/>
                </a:solidFill>
                <a:latin typeface="Verdana"/>
              </a:rPr>
              <a:t>irane iz drugih EU programa i one čije je sprovođenje započelo pre potpisivanja </a:t>
            </a:r>
            <a:r>
              <a:rPr b="0" lang="hr-HR" sz="2200" spc="-1" strike="noStrike">
                <a:solidFill>
                  <a:srgbClr val="ffffcc"/>
                </a:solidFill>
                <a:latin typeface="Verdana"/>
              </a:rPr>
              <a:t>ugovora</a:t>
            </a:r>
            <a:r>
              <a:rPr b="0" lang="vi-VN" sz="22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cc"/>
                </a:solidFill>
                <a:latin typeface="Verdana"/>
              </a:rPr>
              <a:t>NEDOZVOLJENE VRSTE PROJEKATA (ACTIONS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0880" y="2819160"/>
            <a:ext cx="8229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Praćenje javnih politika, uključujući pripremu i prezentaciju izveštaja iz senke i analiza politik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Inicijative zagovaranja (uključujući i zakonodavne inicijative, lobiranje i javne kampanje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Izrada programa obrazovanja i obuke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Pravna zaštit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Savetovanj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Socijalna podršk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cc"/>
                </a:solidFill>
                <a:latin typeface="Verdana"/>
              </a:rPr>
              <a:t>VRSTE AKTIVNOST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0880" y="2819160"/>
            <a:ext cx="8229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Informativne kampanje, promocije, objavljivanje materijala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 za informisanje  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građan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Aktivnosti u oblasti kulture i medij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Razmene u oblasti kulture i razmena mladih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Osmišljavanje specijalizovanih web portala koji 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omogućavaju 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dobijanj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 informacija od građana, pristupa informacijama i javnih debat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Produkcija medijskih sadržaja ( produkcija elektronskih, štampanih i multimedijalnih produkcija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Umrežavanje i izgradnja partnerstv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cc"/>
                </a:solidFill>
                <a:latin typeface="Verdana"/>
              </a:rPr>
              <a:t>VRSTE AKTIVNOST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2819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Po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drška 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EU od 2000. godine ovom sektoru iznosi 33,5 miliona evra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, kroz  programe CARDS i IPA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Program nastoji da obezbedi 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bolji 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pravni i finansijski okvir</a:t>
            </a:r>
            <a:r>
              <a:rPr b="0" lang="hr-HR" sz="2800" spc="-1" strike="noStrike">
                <a:solidFill>
                  <a:srgbClr val="ffffcc"/>
                </a:solidFill>
                <a:latin typeface="Verdana"/>
              </a:rPr>
              <a:t> za rad civilnog društva i da</a:t>
            </a:r>
            <a:r>
              <a:rPr b="0" lang="vi-VN" sz="2800" spc="-1" strike="noStrike">
                <a:solidFill>
                  <a:srgbClr val="ffffcc"/>
                </a:solidFill>
                <a:latin typeface="Verdana"/>
              </a:rPr>
              <a:t> unapredi dijalog sa državnim institucijam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Verdana"/>
              </a:rPr>
              <a:t>EU PROGRAM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0880" y="2819160"/>
            <a:ext cx="8229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Aplikant može da predloži davanje grantova trećim stranama u svrhu postizanja ciljeva projekt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Grantovi trećim stranama ne mogu da budu jedina svrha projekta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Maksimalno dozvoljeni iznos  za ovu vrstu aktivnosti može biti 10% od ukupnog predloženog budžeta projek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cc"/>
                </a:solidFill>
                <a:latin typeface="Verdana"/>
              </a:rPr>
              <a:t>GRANTOVI TREĆIM STRANAM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0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0880" y="2819160"/>
            <a:ext cx="8229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Za dodelu malih grantova neophodno je navesti opis aktivnosti kao i kriterijume po kojima će se vršiti selekcija za podršku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Ova vrsta grantova može se dodeliti isključivo lokalnim organizacijama sa sedištem u Srbiji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cc"/>
                </a:solidFill>
                <a:latin typeface="Verdana"/>
              </a:rPr>
              <a:t>GRANTOVI TREĆIM STRANAM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0520" y="2133720"/>
            <a:ext cx="8525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Aplikant NE može dostaviti više od jednog predloga projekta okviru ovog konkursa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Aplikantu NE može da bude odobreno više od jednog granta u okviru ovog konkursa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Aplikant NE može da bude ko-aplikant ili pridruženo lice u drugom predlogu projekta u isto vreme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Ko-aplikant/pridruženo lice NE može dostaviti više od jednog predloga projekt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Ko-aplikantu/pridruženom licu  NE može da bude odobreno više od jednog granta u okviru ovog konkursa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Napomena: </a:t>
            </a:r>
            <a:r>
              <a:rPr b="0" lang="hr-HR" sz="2200" spc="-1" strike="noStrike">
                <a:solidFill>
                  <a:srgbClr val="ffffcc"/>
                </a:solidFill>
                <a:latin typeface="Verdana"/>
              </a:rPr>
              <a:t>Nepoštovanjem 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gore naveden</a:t>
            </a:r>
            <a:r>
              <a:rPr b="0" lang="hr-HR" sz="22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h pravila konkursa odbija</a:t>
            </a:r>
            <a:r>
              <a:rPr b="0" lang="hr-HR" sz="2200" spc="-1" strike="noStrike">
                <a:solidFill>
                  <a:srgbClr val="ffffcc"/>
                </a:solidFill>
                <a:latin typeface="Verdana"/>
              </a:rPr>
              <a:t>ju se 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svi predlo</a:t>
            </a:r>
            <a:r>
              <a:rPr b="0" lang="hr-HR" sz="2200" spc="-1" strike="noStrike">
                <a:solidFill>
                  <a:srgbClr val="ffffcc"/>
                </a:solidFill>
                <a:latin typeface="Verdana"/>
              </a:rPr>
              <a:t>zi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projekata/prijava</a:t>
            </a:r>
            <a:r>
              <a:rPr b="0" lang="hr-HR" sz="2200" spc="-1" strike="noStrike">
                <a:solidFill>
                  <a:srgbClr val="ffffcc"/>
                </a:solidFill>
                <a:latin typeface="Verdana"/>
              </a:rPr>
              <a:t> u kojima se nalaze isti aplikant, ko-aplikant ili pridruženo li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ZVOLJENI BROJ PREDLOGA PROJEKATA/PRIJAVA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Verdana"/>
              </a:rPr>
              <a:t>Jedino dopušteni</a:t>
            </a:r>
            <a:r>
              <a:rPr b="0" lang="sl-SI" sz="2600" spc="-1" strike="noStrike">
                <a:solidFill>
                  <a:srgbClr val="ffffcc"/>
                </a:solidFill>
                <a:latin typeface="Verdana"/>
              </a:rPr>
              <a:t> (eligible)</a:t>
            </a:r>
            <a:r>
              <a:rPr b="0" lang="en-US" sz="2600" spc="-1" strike="noStrike">
                <a:solidFill>
                  <a:srgbClr val="ffffcc"/>
                </a:solidFill>
                <a:latin typeface="Verdana"/>
              </a:rPr>
              <a:t> troškovi mogu da budu pokriveni grantom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Verdana"/>
              </a:rPr>
              <a:t>Stvarni</a:t>
            </a:r>
            <a:r>
              <a:rPr b="0" lang="sl-SI" sz="2600" spc="-1" strike="noStrike">
                <a:solidFill>
                  <a:srgbClr val="ffffcc"/>
                </a:solidFill>
                <a:latin typeface="Verdana"/>
              </a:rPr>
              <a:t> (actual)</a:t>
            </a:r>
            <a:r>
              <a:rPr b="0" lang="en-US" sz="2600" spc="-1" strike="noStrike">
                <a:solidFill>
                  <a:srgbClr val="ffffcc"/>
                </a:solidFill>
                <a:latin typeface="Verdana"/>
              </a:rPr>
              <a:t> troškovi nastali od strane korisnika i/ili pridruženog lic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Verdana"/>
              </a:rPr>
              <a:t>Jedna ili više pojednostavljenih opcija troškov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ffffcc"/>
                </a:solidFill>
                <a:latin typeface="Verdana"/>
              </a:rPr>
              <a:t>U svrhu sprovođenja ovog konkursa pojednostavljeni troškovi dozvoljeni su isključivo za budžetske stavke 1.1 i 1.2 Plat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cc"/>
                </a:solidFill>
                <a:latin typeface="Verdana"/>
              </a:rPr>
              <a:t>Ne mogu biti veći od EUR 60.000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ffffcc"/>
                </a:solidFill>
                <a:latin typeface="Verdana"/>
              </a:rPr>
              <a:t>Prihvatljivi direktni troškovi moraju biti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ffffcc"/>
                </a:solidFill>
                <a:latin typeface="Verdana"/>
              </a:rPr>
              <a:t>neophodni za sprovođenje aktivnosti</a:t>
            </a:r>
            <a:r>
              <a:rPr b="0" lang="hr-HR" sz="2600" spc="-1" strike="noStrike">
                <a:solidFill>
                  <a:srgbClr val="ffffcc"/>
                </a:solidFill>
                <a:latin typeface="Verdana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ffffcc"/>
                </a:solidFill>
                <a:latin typeface="Verdana"/>
              </a:rPr>
              <a:t>stvarni troškovi korisnika ili partnera tokom implementacije projekta</a:t>
            </a:r>
            <a:r>
              <a:rPr b="0" lang="hr-HR" sz="2600" spc="-1" strike="noStrike">
                <a:solidFill>
                  <a:srgbClr val="ffffcc"/>
                </a:solidFill>
                <a:latin typeface="Verdana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ffffcc"/>
                </a:solidFill>
                <a:latin typeface="Verdana"/>
              </a:rPr>
              <a:t>evidentirani na računima korisnika granta ili partnera odnosno podržani originalnom pratećom dokumentacijom, čiji je identitet moguće utvrditi i verifikovati</a:t>
            </a:r>
            <a:r>
              <a:rPr b="0" lang="sl-SI" sz="2600" spc="-1" strike="noStrike">
                <a:solidFill>
                  <a:srgbClr val="ffffcc"/>
                </a:solidFill>
                <a:latin typeface="Verdana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13716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6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2286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Prihvatljivi direktni troškovi 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uključuju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lične dohotke osoblja angažovanog na</a:t>
            </a:r>
            <a:r>
              <a:rPr b="0" lang="sl-SI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sprovođenju aktivnosti koji odgovaraju stvarnim platama (bruto iznosi koji uključuju i sva socijalno-penziona davanja i doprinos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troškove putovanja i osnovnih potreba osoblja uključenog u aktivnosti</a:t>
            </a:r>
            <a:r>
              <a:rPr b="0" lang="sl-SI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nabavku ili iznajmljivanje opreme i sredstava za </a:t>
            </a: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potrebe projekta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, 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troškove 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neophodnih 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uslug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0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9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Svi troškovi moraju biti jasno opravdani kroz samu aktivnost i njihova provera će biti vršena u skladu sa odredbama Grant ugovo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9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9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Grant ugovor se ne može koristiti u svrhu sticanja profita, već samo za pokrivanje troškova koji su rezultat  sprovođenja projektnih aktivnost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9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Detaljna objašnjenja 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vezano za budžet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avedena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 su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u Članu 14. Opštih uslova za 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rant ugovore (Annex G Smernica, General Condition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08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Nepredviđeni troškovi (Contingency reserv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cc"/>
                </a:solidFill>
                <a:latin typeface="Verdana"/>
              </a:rPr>
              <a:t>Kandidat može uključiti u budžetski predlog i 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vi-VN" sz="2000" spc="-1" strike="noStrike">
                <a:solidFill>
                  <a:srgbClr val="ffffcc"/>
                </a:solidFill>
                <a:latin typeface="Verdana"/>
              </a:rPr>
              <a:t>okvirnu sumu do 5% od direktnih troškova kao rezervu za nepredviđene okolnost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cc"/>
                </a:solidFill>
                <a:latin typeface="Verdana"/>
              </a:rPr>
              <a:t>Ova sredstva se mogu koristiti samo uz</a:t>
            </a:r>
            <a:r>
              <a:rPr b="0" lang="sl-SI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vi-VN" sz="2000" spc="-1" strike="noStrike">
                <a:solidFill>
                  <a:srgbClr val="ffffcc"/>
                </a:solidFill>
                <a:latin typeface="Verdana"/>
              </a:rPr>
              <a:t>prethodno pismeno odobrenje od strane EU Delegacije kao davaoca grant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cc"/>
                </a:solidFill>
                <a:latin typeface="Verdana"/>
              </a:rPr>
              <a:t>Ova sredstva se mogu uklju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č</a:t>
            </a:r>
            <a:r>
              <a:rPr b="0" lang="vi-VN" sz="2000" spc="-1" strike="noStrike">
                <a:solidFill>
                  <a:srgbClr val="ffffcc"/>
                </a:solidFill>
                <a:latin typeface="Verdana"/>
              </a:rPr>
              <a:t>iti u predlog budžeta samo uz detaljno obrazloženje, inače neće biti prihvaćena u fazi odobrenja budžeta projekta (budget clearin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088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Prihvatljivi indirektni troškovi (overheads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m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aksimalno 7% od ukupnog iznosa prihvatljivih</a:t>
            </a:r>
            <a:r>
              <a:rPr b="0" lang="sl-SI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troškova projekta može biti </a:t>
            </a: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dvojeno za</a:t>
            </a:r>
            <a:r>
              <a:rPr b="0" lang="sl-SI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indirektne (administrativne) troškov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Pre potpisivanja ugovora aplikant može biti pozvan da obrazloži traženi procena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8580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Neprihvatljivi troškov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dugovi i kam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gubic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stavke već finansirane u okviru drugog projek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kupovina zemljiš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gubici usled kursnih razli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porezi (PDV), carine i uvozne takse ili bilo kakve druge  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nakna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krediti trećim lici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troškovi ličnih dohodaka osoba zaposlenih u državnoj 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uprav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doprinosi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 u naturi (in kind contribution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prof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ffffcc"/>
                </a:solidFill>
                <a:latin typeface="Verdana"/>
              </a:rPr>
              <a:t>BUDŽE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6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2819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Podrška kroz novi Instrument pre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d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pristupne pomoći EU za finansijsku perspektivu 2014-2020 (IPA I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Bespovratna sredstva za prve dve programske godine (2014-2015) iznos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 četiri miliona evr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Verdana"/>
              </a:rPr>
              <a:t>EU PROGRAM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33520" y="19051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Obavezna registracija u </a:t>
            </a:r>
            <a:r>
              <a:rPr b="1" lang="sr-Latn-RS" sz="2200" spc="-1" strike="noStrike">
                <a:solidFill>
                  <a:srgbClr val="ffffcc"/>
                </a:solidFill>
                <a:latin typeface="Verdana"/>
              </a:rPr>
              <a:t>PADOR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 sistemu za</a:t>
            </a:r>
            <a:r>
              <a:rPr b="0" lang="sr-Latn-RS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sve aplikante, ko-aplikante i pridružena lic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ffffcc"/>
                </a:solidFill>
                <a:latin typeface="Verdana"/>
              </a:rPr>
              <a:t>Konkursna  dokumentacija salju se elektronskim putem kroz </a:t>
            </a:r>
            <a:r>
              <a:rPr b="1" lang="vi-VN" sz="2200" spc="-1" strike="noStrike">
                <a:solidFill>
                  <a:srgbClr val="ffffcc"/>
                </a:solidFill>
                <a:latin typeface="Verdana"/>
              </a:rPr>
              <a:t>PROSPE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ffffcc"/>
                </a:solidFill>
                <a:latin typeface="Verdana"/>
              </a:rPr>
              <a:t>Sve prijave podnete na bilo koji drugi način biće automatski odbije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ffffcc"/>
                </a:solidFill>
                <a:latin typeface="Verdana"/>
              </a:rPr>
              <a:t>Započeti proces aplikacije u PROSPECT sistemu što pre, nikako poslednji minut pred rok za podnošenje prijave - problemi mogu nastati zbog gubitka interneta ili nestanka struje i sl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ffffcc"/>
                </a:solidFill>
                <a:latin typeface="Verdana"/>
              </a:rPr>
              <a:t>DEU ne snosi odgovornost ukoliko zbog gore navedenih razloga ili nekih drugih problema dođe do kašnjenja prilikom podnošenja prija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ffffcc"/>
                </a:solidFill>
                <a:latin typeface="Arial"/>
              </a:rPr>
              <a:t>PROCEDURA PRIJAVLJIVANJA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0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920" y="2438280"/>
            <a:ext cx="82296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300" spc="-1" strike="noStrike">
                <a:solidFill>
                  <a:srgbClr val="ffffcc"/>
                </a:solidFill>
                <a:latin typeface="Verdana"/>
              </a:rPr>
              <a:t>Elektronska baza podataka organizacija koja treba redovno da se ažurira putem: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3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300" spc="-1" strike="noStrike">
                <a:solidFill>
                  <a:srgbClr val="ffffcc"/>
                </a:solidFill>
                <a:latin typeface="Verdana"/>
              </a:rPr>
              <a:t>http://ec.europa.eu/europeaid/work/onlineservices/pador/index_en.ht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7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300" spc="-1" strike="noStrike">
                <a:solidFill>
                  <a:srgbClr val="ffffcc"/>
                </a:solidFill>
                <a:latin typeface="Verdana"/>
              </a:rPr>
              <a:t>Važno je da započnete proces registracije u PADOR sistemu što pre, nikako ne čekajte rok za podnošenje prijave.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7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300" spc="-1" strike="noStrike">
                <a:solidFill>
                  <a:srgbClr val="ffffcc"/>
                </a:solidFill>
                <a:latin typeface="Verdana"/>
              </a:rPr>
              <a:t>Kao rezultat prijave u PADOR sistemu, dobićete identifikacioni broj koji treba da se koristi pri popunjavanju prijave projekta.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7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300" spc="-1" strike="noStrike">
                <a:solidFill>
                  <a:srgbClr val="ffffcc"/>
                </a:solidFill>
                <a:latin typeface="Verdana"/>
              </a:rPr>
              <a:t>Sva dodatna pitanja uputite na: Europeaid-pador@ec.europa.eu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7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cc"/>
                </a:solidFill>
                <a:latin typeface="Verdana"/>
              </a:rPr>
              <a:t>NAPOMENA: Registracija u PADORU </a:t>
            </a:r>
            <a:r>
              <a:rPr b="0" lang="en-GB" sz="2300" spc="-1" strike="noStrike" u="sng">
                <a:solidFill>
                  <a:srgbClr val="ffffcc"/>
                </a:solidFill>
                <a:uFillTx/>
                <a:latin typeface="Verdana"/>
              </a:rPr>
              <a:t>je obavezna </a:t>
            </a:r>
            <a:r>
              <a:rPr b="0" lang="en-GB" sz="2300" spc="-1" strike="noStrike">
                <a:solidFill>
                  <a:srgbClr val="ffffcc"/>
                </a:solidFill>
                <a:latin typeface="Verdana"/>
              </a:rPr>
              <a:t>za sve: aplikant</a:t>
            </a:r>
            <a:r>
              <a:rPr b="0" lang="sl-SI" sz="23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0" lang="en-GB" sz="2300" spc="-1" strike="noStrike">
                <a:solidFill>
                  <a:srgbClr val="ffffcc"/>
                </a:solidFill>
                <a:latin typeface="Verdana"/>
              </a:rPr>
              <a:t>, ko-aplikante i pridru</a:t>
            </a:r>
            <a:r>
              <a:rPr b="0" lang="sl-SI" sz="2300" spc="-1" strike="noStrike">
                <a:solidFill>
                  <a:srgbClr val="ffffcc"/>
                </a:solidFill>
                <a:latin typeface="Verdana"/>
              </a:rPr>
              <a:t>ž</a:t>
            </a:r>
            <a:r>
              <a:rPr b="0" lang="en-GB" sz="2300" spc="-1" strike="noStrike">
                <a:solidFill>
                  <a:srgbClr val="ffffcc"/>
                </a:solidFill>
                <a:latin typeface="Verdana"/>
              </a:rPr>
              <a:t>ena lica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cc"/>
                </a:solidFill>
                <a:latin typeface="Verdana"/>
              </a:rPr>
              <a:t>PAD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53352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Priprema se na engleskom jeziku i u elektronskom obliku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 u="sng">
                <a:solidFill>
                  <a:srgbClr val="ffffcc"/>
                </a:solidFill>
                <a:uFillTx/>
                <a:latin typeface="Verdana"/>
              </a:rPr>
              <a:t>Prijava se šalje kroz PROSPECT : https://webgate.ec.europa.eu/europeaid/prospe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Aplikant ce dobiti automatsku potvrdu da je aplikacija primljen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Pojašnjenja će se tražiti samo u slučaju da informacije u formularu nisu dovoljne za objektivnu procenu projekt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Greške nastale nepridržavanjem instrukcija za popunjavanje formulara koncepta projekta i stavki u Kontrolnoj listi/Checklist mogu dovesti do odbijanja predloga projekt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sr-Latn-RS" sz="4000" spc="-1" strike="noStrike">
                <a:solidFill>
                  <a:srgbClr val="ffffcc"/>
                </a:solidFill>
                <a:latin typeface="Verdana"/>
              </a:rPr>
              <a:t>PRIJAVA PROJEKT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53352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Pratiti uputstva za izradu iz prijavnog formulara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Predlog projekta (objavljeni Aneks 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A1 i 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A2) (eng. 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Concept Note and 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Full Application Form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Budžet (eng. Budget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Logička matrica (eng. Logical Framewor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Kopija izveštaja o poslovanju Aplikanta (Bilans stanja, Bilans uspeha, Statistički aneks) za prethodnu finansijsku godinu potvđenog od strane relevantne poreske uprave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 koja 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 mora biti uneta u </a:t>
            </a:r>
            <a:r>
              <a:rPr b="1" lang="vi-VN" sz="2400" spc="-1" strike="noStrike">
                <a:solidFill>
                  <a:srgbClr val="ffffcc"/>
                </a:solidFill>
                <a:latin typeface="Verdana"/>
              </a:rPr>
              <a:t>PAD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sr-Latn-RS" sz="4000" spc="-1" strike="noStrike">
                <a:solidFill>
                  <a:srgbClr val="ffffcc"/>
                </a:solidFill>
                <a:latin typeface="Verdana"/>
              </a:rPr>
              <a:t>PRIJAVA PROJEKT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920" y="2209680"/>
            <a:ext cx="86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cc"/>
                </a:solidFill>
                <a:latin typeface="Verdana"/>
              </a:rPr>
              <a:t>13. septembar 2016. u </a:t>
            </a: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15:00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Prijave koje su poslate nakon datuma predviđenog za prijavu biće odbijen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ffffcc"/>
                </a:solidFill>
                <a:latin typeface="Verdana"/>
              </a:rPr>
              <a:t>ROK ZA PRIJAVU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6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0880" y="2590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Sva dodatna pitanja mogu da se šalju </a:t>
            </a:r>
            <a:r>
              <a:rPr b="1" lang="sr-Latn-RS" sz="2600" spc="-1" strike="noStrike">
                <a:solidFill>
                  <a:srgbClr val="ffffcc"/>
                </a:solidFill>
                <a:latin typeface="Verdana"/>
              </a:rPr>
              <a:t>do 23. avgust  2016. do 16:00h</a:t>
            </a: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 na DELEGATION-SERBIA-FCS@eeas.europa.eu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Odgovori na dodatna pitanja biće objavljeni </a:t>
            </a:r>
            <a:r>
              <a:rPr b="1" lang="sr-Latn-RS" sz="2600" spc="-1" strike="noStrike">
                <a:solidFill>
                  <a:srgbClr val="ffffcc"/>
                </a:solidFill>
                <a:latin typeface="Verdana"/>
              </a:rPr>
              <a:t>02.septembra 2016. </a:t>
            </a: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na: https://webgate.ec.europa.eu/europeaid/online-services/index.cfm?do=publi.welcome i n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http://www.europa.r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cc"/>
                </a:solidFill>
                <a:latin typeface="Verdana"/>
              </a:rPr>
              <a:t>DODATNA PITANJ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2819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cc"/>
                </a:solidFill>
                <a:latin typeface="Verdana"/>
              </a:rPr>
              <a:t>Korak 1</a:t>
            </a:r>
            <a:r>
              <a:rPr b="0" lang="sr-Latn-RS" sz="2800" spc="-1" strike="noStrike">
                <a:solidFill>
                  <a:srgbClr val="ffffcc"/>
                </a:solidFill>
                <a:latin typeface="Verdana"/>
              </a:rPr>
              <a:t>: Otvaranje i administrativna provera i evaluacija projektnih koncepa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cc"/>
                </a:solidFill>
                <a:latin typeface="Verdana"/>
              </a:rPr>
              <a:t>Korak 2</a:t>
            </a:r>
            <a:r>
              <a:rPr b="0" lang="sr-Latn-RS" sz="2800" spc="-1" strike="noStrike">
                <a:solidFill>
                  <a:srgbClr val="ffffcc"/>
                </a:solidFill>
                <a:latin typeface="Verdana"/>
              </a:rPr>
              <a:t>: Evaluacija finalnog predlog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cc"/>
                </a:solidFill>
                <a:latin typeface="Verdana"/>
              </a:rPr>
              <a:t>Korak 3</a:t>
            </a:r>
            <a:r>
              <a:rPr b="0" lang="sr-Latn-RS" sz="2800" spc="-1" strike="noStrike">
                <a:solidFill>
                  <a:srgbClr val="ffffcc"/>
                </a:solidFill>
                <a:latin typeface="Verdana"/>
              </a:rPr>
              <a:t>: Provera kvalifikovanosti aplikanata, ko-aplikanata i pridruženih lic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cc"/>
                </a:solidFill>
                <a:latin typeface="Verdana"/>
              </a:rPr>
              <a:t>PROCES EVALUACIJ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cc"/>
                </a:solidFill>
                <a:latin typeface="Verdana"/>
              </a:rPr>
              <a:t>Koncepti projekata, koji su prošli administrativnu proveru,</a:t>
            </a: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 se rangiraju na bodovnoj listi od najbolje do najslabije ocenjenog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Najviši broj bodova je 50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Projekti koji su dobili više od 30 bodova biće u drug</a:t>
            </a:r>
            <a:r>
              <a:rPr b="0" lang="en-GB" sz="2600" spc="-1" strike="noStrike">
                <a:solidFill>
                  <a:srgbClr val="ffffcc"/>
                </a:solidFill>
                <a:latin typeface="Verdana"/>
              </a:rPr>
              <a:t>om</a:t>
            </a: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 krug</a:t>
            </a:r>
            <a:r>
              <a:rPr b="0" lang="en-GB" sz="2600" spc="-1" strike="noStrike">
                <a:solidFill>
                  <a:srgbClr val="ffffcc"/>
                </a:solidFill>
                <a:latin typeface="Verdana"/>
              </a:rPr>
              <a:t>u</a:t>
            </a: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 evaluacije ukoliko je njihovo mesto na listi iznad praga od duplo većeg iznosa predviđenog konkursom (u ovom slučaju 7.600,000,00 evra)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cc"/>
                </a:solidFill>
                <a:latin typeface="Verdana"/>
              </a:rPr>
              <a:t>Korak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53352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Evaluacija finalnih predloga koji su prošli administrativnu proveru, uključuj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Kriterijume selekcije aplikanata, ko-aplikanata i pridruženih lica  - operativni i finansijski kapaciteti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Kriterijume za procenu kvaliteta prijave – delotvornost i izvodljivost akcije, učinak i održivost akcije te budžet i ekonomičnost akcij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Najviši broj bodova je 100, a uključuje i prenos bodova iz koncepta projekta koji se odnose na relevantnost predlog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Priprema rang liste najbolje ocenjenih projekata u skladu sa dostupnim sredstvima, kao i rezervna list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cc"/>
                </a:solidFill>
                <a:latin typeface="Verdana"/>
              </a:rPr>
              <a:t>Korak 2</a:t>
            </a:r>
            <a:r>
              <a:rPr b="0" lang="sr-Latn-R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0520" y="1905120"/>
            <a:ext cx="849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Provera kvalifikovanosti aplikanata, ko-aplikanata i pridruženih lica na osnovu tražene dokumentacije koja treba da bude dostupna kroz PADOR: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Statut ili osnivački akt aplikanta, ko-aplikanta i pridruženih lica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Formular o pravnom statusu za aplikanta i ko-aplikant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Finansijski identifikacioni formular (FIF) za aplikant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cc"/>
                </a:solidFill>
                <a:latin typeface="Verdana"/>
              </a:rPr>
              <a:t>Korak 3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6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2819160"/>
            <a:ext cx="822960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Podrška u vidu dugoročnih grantova 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za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 inicijativ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 koje su usmerene na poglavlja 23 i 24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, 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regionalnu saradnju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 i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 u</a:t>
            </a:r>
            <a:r>
              <a:rPr b="0" lang="vi-VN" sz="2400" spc="-1" strike="noStrike">
                <a:solidFill>
                  <a:srgbClr val="ffffcc"/>
                </a:solidFill>
                <a:latin typeface="Verdana"/>
              </a:rPr>
              <a:t>češće civilnog društva u pregovaračkom procesu Srbije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 praćenju javnih politi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Verdana"/>
              </a:rPr>
              <a:t>CILJ KONKUR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3520" y="320004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Svi aplikanti će u pisanom obliku biti obavešteni o rezultatima konkurs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Inidikativni raspored sprovođenja svih faza konkursa nalazi se u okviru Uputstva za aplikant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Verdana"/>
              </a:rPr>
              <a:t>ODLUKA O DODELI GRAN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0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228600" y="2362320"/>
            <a:ext cx="8639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Verdana"/>
              </a:rPr>
              <a:t>Dokumenti koji treba da se popu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Verdana"/>
              </a:rPr>
              <a:t>Aneks A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: Formular</a:t>
            </a:r>
            <a:r>
              <a:rPr b="0" lang="sl-SI" sz="24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 za prijavu projekta</a:t>
            </a:r>
            <a:r>
              <a:rPr b="0" lang="sl-SI" sz="2400" spc="-1" strike="noStrike">
                <a:solidFill>
                  <a:srgbClr val="ffffcc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cc"/>
                </a:solidFill>
                <a:latin typeface="Verdana"/>
              </a:rPr>
              <a:t>Aneks A1 Formular - Koncept projekta (Concept Not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cc"/>
                </a:solidFill>
                <a:latin typeface="Verdana"/>
              </a:rPr>
              <a:t>Aneks A2 Formular – Finalni predlog (Full application fo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Verdana"/>
              </a:rPr>
              <a:t>Aneks B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: Budž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Verdana"/>
              </a:rPr>
              <a:t>Aneks C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: Logička matr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Verdana"/>
              </a:rPr>
              <a:t>Aneks D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: Formular o pravnom statu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Verdana"/>
              </a:rPr>
              <a:t>Aneks E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: Finansijski identifikacioni formula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Verdana"/>
              </a:rPr>
              <a:t>Aneks F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: PADOR formular (</a:t>
            </a:r>
            <a:r>
              <a:rPr b="0" i="1" lang="en-GB" sz="2400" spc="-1" strike="noStrike">
                <a:solidFill>
                  <a:srgbClr val="ffffcc"/>
                </a:solidFill>
                <a:latin typeface="Verdana"/>
              </a:rPr>
              <a:t>eng. off Line Form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Verdana"/>
              </a:rPr>
              <a:t>Lista aneksa konkurs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228600" y="2286000"/>
            <a:ext cx="860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Dokumenti za informisanje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neks G: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Standardni grant ugovor sa aneksim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neks H: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Iznosi dnevnica http://ec.europa.eu/europeaid/work/procedures/implementation/index_en.ht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Verdana"/>
              </a:rPr>
              <a:t>Aneks J : 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Informacija o poreskom re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žimu za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 grant 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ugovo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neks K: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Uputstva i lista za proveru za procenu budžeta i opcije jednostavnih troškov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cc"/>
                </a:solidFill>
                <a:latin typeface="Verdana"/>
              </a:rPr>
              <a:t>Aneks L i M: 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PROSPECT vodič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Verdana"/>
              </a:rPr>
              <a:t>Lista aneksa konkurs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228600" y="2286000"/>
            <a:ext cx="860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Korisni linkovi 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Verdana"/>
              </a:rPr>
              <a:t>Project Cycle Management Guidelines 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http://ec.europa.eu/europeaid/aid-delivery-methods-project-cycle-management-guidelines-vol-1_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Verdana"/>
              </a:rPr>
              <a:t>The implementation of grant contracts -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 Users' Guid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http://ec.europa.eu/europeaid/companion/document.do?nodeNumber=19&amp;locale=e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Verdana"/>
              </a:rPr>
              <a:t>Financial Toolkit</a:t>
            </a:r>
            <a:r>
              <a:rPr b="1" lang="en-GB" sz="2000" spc="-1" strike="noStrike">
                <a:solidFill>
                  <a:srgbClr val="ffffcc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http://ec.europa.eu/europeaid/funding/procedures-beneficiary-countries-and-partners/financial-management-toolkit_e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Verdana"/>
              </a:rPr>
              <a:t>Lista aneksa konkurs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6840" y="2819160"/>
            <a:ext cx="8420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Bud</a:t>
            </a: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žet 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konkursa: </a:t>
            </a:r>
            <a:r>
              <a:rPr b="0" lang="sr-Latn-CS" sz="2400" spc="-1" strike="noStrike">
                <a:solidFill>
                  <a:srgbClr val="ffffcc"/>
                </a:solidFill>
                <a:latin typeface="Verdana"/>
              </a:rPr>
              <a:t>3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,</a:t>
            </a:r>
            <a:r>
              <a:rPr b="0" lang="sr-Latn-CS" sz="2400" spc="-1" strike="noStrike">
                <a:solidFill>
                  <a:srgbClr val="ffffcc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00,000 evr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Veličina grantova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Min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imum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: 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30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0,000 evr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Ma</a:t>
            </a:r>
            <a:r>
              <a:rPr b="0" lang="sr-Latn-CS" sz="2000" spc="-1" strike="noStrike">
                <a:solidFill>
                  <a:srgbClr val="ffffcc"/>
                </a:solidFill>
                <a:latin typeface="Verdana"/>
              </a:rPr>
              <a:t>ksimum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: 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50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0,000 evr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Procenat sufinansiranja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Min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imum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: 50% ukupnih troškova projek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Maks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imum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: 90% ukupnih troškova projek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Verdana"/>
              </a:rPr>
              <a:t>FINANSIJSKI OKVI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32004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Verdana"/>
              </a:rPr>
              <a:t>Glavni akteri koji mogu da učestvuju na konkursu su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Verdana"/>
              </a:rPr>
              <a:t>Aplikant 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(</a:t>
            </a:r>
            <a:r>
              <a:rPr b="0" i="1" lang="en-GB" sz="2400" spc="-1" strike="noStrike">
                <a:solidFill>
                  <a:srgbClr val="ffffcc"/>
                </a:solidFill>
                <a:latin typeface="Verdana"/>
              </a:rPr>
              <a:t>eng. applicant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) – podnosilac predloga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 projek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Verdana"/>
              </a:rPr>
              <a:t>Ko-aplikant 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(</a:t>
            </a:r>
            <a:r>
              <a:rPr b="0" i="1" lang="en-GB" sz="2400" spc="-1" strike="noStrike">
                <a:solidFill>
                  <a:srgbClr val="ffffcc"/>
                </a:solidFill>
                <a:latin typeface="Verdana"/>
              </a:rPr>
              <a:t>eng. co-applicant/s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Verdana"/>
              </a:rPr>
              <a:t>Pridruženo lice 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(eng. affiliated entity/i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828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Verdana"/>
              </a:rPr>
              <a:t>KO MOŽE DA UČESTVUJ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28600" y="2057400"/>
            <a:ext cx="852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Da bi ispuni</a:t>
            </a:r>
            <a:r>
              <a:rPr b="0" lang="sr-Latn-CS" sz="2400" spc="-1" strike="noStrike">
                <a:solidFill>
                  <a:srgbClr val="ffffcc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 uslove za prijavu, mora da bud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Pravno li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Verdana"/>
              </a:rPr>
              <a:t>Neprofitnog karakte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Verdana"/>
              </a:rPr>
              <a:t>Organizacija civilnog društ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sr-Latn-CS" sz="2400" spc="-1" strike="noStrike">
                <a:solidFill>
                  <a:srgbClr val="ffffcc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Osnovan u jednoj od zemalja članica EU ili jednoj od zemalja 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koje su obuhvaćene Članom 10 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IPA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 regulative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D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irektno odgovor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a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n za pripremu i upravljanje projektom zajedno sa ko-aplikantom i pridruženim lice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A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plikant ne može da deluje kao posrednik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Verdana"/>
              </a:rPr>
              <a:t>APLIKA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2666520"/>
            <a:ext cx="85248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U realizaciji projekta </a:t>
            </a:r>
            <a:r>
              <a:rPr b="0" lang="hr-HR" sz="2400" spc="-1" strike="noStrike" u="sng">
                <a:solidFill>
                  <a:srgbClr val="ffffcc"/>
                </a:solidFill>
                <a:uFillTx/>
                <a:latin typeface="Verdana"/>
              </a:rPr>
              <a:t>m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</a:rPr>
              <a:t>o</a:t>
            </a:r>
            <a:r>
              <a:rPr b="0" lang="hr-HR" sz="2400" spc="-1" strike="noStrike" u="sng">
                <a:solidFill>
                  <a:srgbClr val="ffffcc"/>
                </a:solidFill>
                <a:uFillTx/>
                <a:latin typeface="Verdana"/>
              </a:rPr>
              <a:t>ra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</a:rPr>
              <a:t> da učestvuje sa </a:t>
            </a:r>
            <a:r>
              <a:rPr b="0" lang="hr-HR" sz="2400" spc="-1" strike="noStrike" u="sng">
                <a:solidFill>
                  <a:srgbClr val="ffffcc"/>
                </a:solidFill>
                <a:uFillTx/>
                <a:latin typeface="Verdana"/>
              </a:rPr>
              <a:t>najmanje jednim partnerom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 (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ko-aplikant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om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U slučaju da aplikant nije  organizacija civilnog društva osnovana/registrovana u Srbiji, partnerstvo sa minimum jednom organizacijom iz Srbije je obavezno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Aplikant postaje korisnik identifikovan kao koordinator. 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Koordinato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r je glavni sagovornik sa ugovornim telom.  On predstavlja i deluje u ime svih korisnika i koordinira sprovođenje projekt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Verdana"/>
              </a:rPr>
              <a:t>APLIKA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7002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2"/>
          <p:cNvSpPr/>
          <p:nvPr/>
        </p:nvSpPr>
        <p:spPr>
          <a:xfrm>
            <a:off x="2818800" y="38088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7:05:30Z</dcterms:created>
  <dc:creator>Svetlana.DJUKIC@eeas.europa.eu</dc:creator>
  <dc:description/>
  <dc:language>en-US</dc:language>
  <cp:lastModifiedBy>unknown</cp:lastModifiedBy>
  <cp:lastPrinted>2016-07-22T08:10:52Z</cp:lastPrinted>
  <dcterms:modified xsi:type="dcterms:W3CDTF">2016-07-22T14:20:05Z</dcterms:modified>
  <cp:revision>262</cp:revision>
  <dc:subject/>
  <dc:title>PowerPointova prezentacija</dc:title>
</cp:coreProperties>
</file>