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07D841-CACB-49D7-98C4-554743B09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78EE67-E4E6-4C32-8A16-30BE01D7FE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DEA-BEA6-4765-9CA9-030AB535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710-F7CD-4A31-A2F3-AF8311A8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111-E7FC-48A9-99F3-DBF7CA6F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847-22EB-4534-9617-08B48225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5264-B066-400B-94CD-C588AF60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EEF5-1986-47BA-87DA-EDD1EDE1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8C44-CA13-48C6-A161-1337880D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55E3-65F2-4A18-9D02-9DC6558B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84E8-357A-4E86-A067-9451A536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ED9C-283D-43C3-B292-1E8D25E0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7932-E5C1-46E0-B989-DD2F59F9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833-AFC5-465A-B292-5CBCDD76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E443-76F4-49BD-AEB1-A65148D5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773A-5E27-4E3A-BFBB-5A635E65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C133-5642-400C-8238-B588A57B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CE9F-716A-4BD3-B754-41DAD9F4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EC0E-B036-4E99-9BA7-515A8B05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7335-89FC-4177-8F00-4462943C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004C-0ACE-42AA-B9D3-DD46D30E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24511-7C81-4F84-B349-CE17478C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13A0-05CF-4933-B646-12D4DFB7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9F33-B42B-4C85-BC2C-B06EC5BC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86E-35A1-417A-8E70-3ED58EB8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9B1C0-F2BE-49F5-8738-D3129D48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7F8A-013C-4B28-BD74-42B5D4E0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31B5-96AD-4B9A-A95B-723470EC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907B-1E4E-4EAC-B29E-7398CA1E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3A92-380C-4DE3-AAD2-C7A4C1FE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861C-8B70-4A4B-9A2F-8E1770C7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80A71-DFF0-4677-8E4F-33B292FB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F6A-C29E-439F-97BF-C6514811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681-F57F-40D0-BE5E-5646EC7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9FB-9ACA-42DB-ADDD-43E6ADE6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B8E-B3A8-4D08-9033-0A6E316B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22B-F6EA-4B1B-BE91-10E5EC9C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97E-1079-41DB-9E93-9D6B4DE9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200" cy="2682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360"/>
                <a:gd name="textAreaBottom" fmla="*/ 2682720 h 268236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599760" cy="82836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2840" cy="1616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2800" cy="6851160"/>
              <a:chOff x="457200" y="0"/>
              <a:chExt cx="8092800" cy="685116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3760" cy="68511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5760" cy="685116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600" cy="685116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520" cy="685116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16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16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240" cy="685116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600" cy="68511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5920" cy="685116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280" cy="685116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600" cy="685116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69640" cy="685116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080" cy="685116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1560" cy="224604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1440" cy="6760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1680" cy="283500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000"/>
                <a:gd name="textAreaBottom" fmla="*/ 2835360 h 28350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200" cy="134100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000"/>
                <a:gd name="textAreaBottom" fmla="*/ 1341360 h 134100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280" cy="65700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1880" cy="223632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120" cy="9504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400"/>
                <a:gd name="textAreaBottom" fmla="*/ 950760 h 95040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400" cy="399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080"/>
              <a:ext cx="9140760" cy="2494440"/>
              <a:chOff x="1440" y="622080"/>
              <a:chExt cx="9140760" cy="249444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0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BE2372-F5AA-43FE-9E07-E234CD440D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8920" y="4168800"/>
              <a:ext cx="1141200" cy="2682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360"/>
                <a:gd name="textAreaBottom" fmla="*/ 2682720 h 268236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50360" y="6022800"/>
              <a:ext cx="599760" cy="82836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6920" y="6689880"/>
              <a:ext cx="132840" cy="1616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7200" y="0"/>
              <a:ext cx="8092800" cy="6851160"/>
              <a:chOff x="457200" y="0"/>
              <a:chExt cx="8092800" cy="685116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7640" y="0"/>
                <a:ext cx="113760" cy="68511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3920" y="0"/>
                <a:ext cx="275760" cy="685116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30880" y="0"/>
                <a:ext cx="534600" cy="685116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5600" y="0"/>
                <a:ext cx="677520" cy="685116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4360" y="0"/>
                <a:ext cx="885600" cy="685116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40640" y="0"/>
                <a:ext cx="1095120" cy="685116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8760" y="0"/>
                <a:ext cx="1371240" cy="685116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8440" y="0"/>
                <a:ext cx="237600" cy="68511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2640" y="0"/>
                <a:ext cx="475920" cy="685116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6160" y="0"/>
                <a:ext cx="674280" cy="685116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90640" y="0"/>
                <a:ext cx="912600" cy="685116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4560" y="0"/>
                <a:ext cx="1169640" cy="685116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7200" y="0"/>
                <a:ext cx="1333080" cy="685116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9360" y="4605480"/>
              <a:ext cx="961560" cy="224604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9360" y="6175440"/>
              <a:ext cx="361440" cy="6760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1960" y="0"/>
              <a:ext cx="1561680" cy="283500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000"/>
                <a:gd name="textAreaBottom" fmla="*/ 2835360 h 28350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2440" y="0"/>
              <a:ext cx="1141200" cy="134100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000"/>
                <a:gd name="textAreaBottom" fmla="*/ 1341360 h 134100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6360" y="0"/>
              <a:ext cx="647280" cy="65700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9360" y="0"/>
              <a:ext cx="1361880" cy="223632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9360" y="0"/>
              <a:ext cx="933120" cy="9504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400"/>
                <a:gd name="textAreaBottom" fmla="*/ 950760 h 95040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9360" y="0"/>
              <a:ext cx="428400" cy="399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1440" y="436392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1440" y="374004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1440" y="498780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1440" y="622080"/>
              <a:ext cx="9140760" cy="2494440"/>
              <a:chOff x="1440" y="622080"/>
              <a:chExt cx="9140760" cy="249444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1440" y="124452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1440" y="311616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1440" y="24922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1440" y="186840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1440" y="6220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1440" y="623556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1440" y="561168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ec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6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3F0ECB-6ECB-4903-9EA1-2F407B4017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57" name="Freeform 3"/>
            <p:cNvSpPr/>
            <p:nvPr/>
          </p:nvSpPr>
          <p:spPr>
            <a:xfrm>
              <a:off x="8008920" y="4168800"/>
              <a:ext cx="1141200" cy="2682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360"/>
                <a:gd name="textAreaBottom" fmla="*/ 2682720 h 268236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8550360" y="6022800"/>
              <a:ext cx="599760" cy="82836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9016920" y="6689880"/>
              <a:ext cx="132840" cy="1616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" name="Group 6"/>
            <p:cNvGrpSpPr/>
            <p:nvPr/>
          </p:nvGrpSpPr>
          <p:grpSpPr>
            <a:xfrm>
              <a:off x="457200" y="0"/>
              <a:ext cx="8092800" cy="6851160"/>
              <a:chOff x="457200" y="0"/>
              <a:chExt cx="8092800" cy="6851160"/>
            </a:xfrm>
          </p:grpSpPr>
          <p:sp>
            <p:nvSpPr>
              <p:cNvPr id="161" name="Freeform 7"/>
              <p:cNvSpPr/>
              <p:nvPr/>
            </p:nvSpPr>
            <p:spPr>
              <a:xfrm>
                <a:off x="4427640" y="0"/>
                <a:ext cx="113760" cy="68511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8"/>
              <p:cNvSpPr/>
              <p:nvPr/>
            </p:nvSpPr>
            <p:spPr>
              <a:xfrm>
                <a:off x="4903920" y="0"/>
                <a:ext cx="275760" cy="685116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9"/>
              <p:cNvSpPr/>
              <p:nvPr/>
            </p:nvSpPr>
            <p:spPr>
              <a:xfrm>
                <a:off x="5330880" y="0"/>
                <a:ext cx="534600" cy="685116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0"/>
              <p:cNvSpPr/>
              <p:nvPr/>
            </p:nvSpPr>
            <p:spPr>
              <a:xfrm>
                <a:off x="5835600" y="0"/>
                <a:ext cx="677520" cy="685116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6264360" y="0"/>
                <a:ext cx="885600" cy="685116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6740640" y="0"/>
                <a:ext cx="1095120" cy="685116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7178760" y="0"/>
                <a:ext cx="1371240" cy="685116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3808440" y="0"/>
                <a:ext cx="237600" cy="68511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3122640" y="0"/>
                <a:ext cx="475920" cy="685116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6"/>
              <p:cNvSpPr/>
              <p:nvPr/>
            </p:nvSpPr>
            <p:spPr>
              <a:xfrm>
                <a:off x="2486160" y="0"/>
                <a:ext cx="674280" cy="685116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7"/>
              <p:cNvSpPr/>
              <p:nvPr/>
            </p:nvSpPr>
            <p:spPr>
              <a:xfrm>
                <a:off x="1790640" y="0"/>
                <a:ext cx="912600" cy="685116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8"/>
              <p:cNvSpPr/>
              <p:nvPr/>
            </p:nvSpPr>
            <p:spPr>
              <a:xfrm>
                <a:off x="1114560" y="0"/>
                <a:ext cx="1169640" cy="685116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9"/>
              <p:cNvSpPr/>
              <p:nvPr/>
            </p:nvSpPr>
            <p:spPr>
              <a:xfrm>
                <a:off x="457200" y="0"/>
                <a:ext cx="1333080" cy="685116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Freeform 20"/>
            <p:cNvSpPr/>
            <p:nvPr/>
          </p:nvSpPr>
          <p:spPr>
            <a:xfrm>
              <a:off x="9360" y="4605480"/>
              <a:ext cx="961560" cy="224604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>
              <a:off x="9360" y="6175440"/>
              <a:ext cx="361440" cy="6760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2"/>
            <p:cNvSpPr/>
            <p:nvPr/>
          </p:nvSpPr>
          <p:spPr>
            <a:xfrm>
              <a:off x="7581960" y="0"/>
              <a:ext cx="1561680" cy="283500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000"/>
                <a:gd name="textAreaBottom" fmla="*/ 2835360 h 28350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3"/>
            <p:cNvSpPr/>
            <p:nvPr/>
          </p:nvSpPr>
          <p:spPr>
            <a:xfrm>
              <a:off x="8002440" y="0"/>
              <a:ext cx="1141200" cy="134100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000"/>
                <a:gd name="textAreaBottom" fmla="*/ 1341360 h 134100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4"/>
            <p:cNvSpPr/>
            <p:nvPr/>
          </p:nvSpPr>
          <p:spPr>
            <a:xfrm>
              <a:off x="8496360" y="0"/>
              <a:ext cx="647280" cy="65700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5"/>
            <p:cNvSpPr/>
            <p:nvPr/>
          </p:nvSpPr>
          <p:spPr>
            <a:xfrm>
              <a:off x="9360" y="0"/>
              <a:ext cx="1361880" cy="223632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6"/>
            <p:cNvSpPr/>
            <p:nvPr/>
          </p:nvSpPr>
          <p:spPr>
            <a:xfrm>
              <a:off x="9360" y="0"/>
              <a:ext cx="933120" cy="9504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400"/>
                <a:gd name="textAreaBottom" fmla="*/ 950760 h 95040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9360" y="0"/>
              <a:ext cx="428400" cy="399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1440" y="436392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1440" y="374004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1440" y="498780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31"/>
            <p:cNvGrpSpPr/>
            <p:nvPr/>
          </p:nvGrpSpPr>
          <p:grpSpPr>
            <a:xfrm>
              <a:off x="1440" y="622080"/>
              <a:ext cx="9140760" cy="2494440"/>
              <a:chOff x="1440" y="622080"/>
              <a:chExt cx="9140760" cy="2494440"/>
            </a:xfrm>
          </p:grpSpPr>
          <p:sp>
            <p:nvSpPr>
              <p:cNvPr id="186" name="Line 32"/>
              <p:cNvSpPr/>
              <p:nvPr/>
            </p:nvSpPr>
            <p:spPr>
              <a:xfrm>
                <a:off x="1440" y="124452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33"/>
              <p:cNvSpPr/>
              <p:nvPr/>
            </p:nvSpPr>
            <p:spPr>
              <a:xfrm>
                <a:off x="1440" y="311616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4"/>
              <p:cNvSpPr/>
              <p:nvPr/>
            </p:nvSpPr>
            <p:spPr>
              <a:xfrm>
                <a:off x="1440" y="24922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>
                <a:off x="1440" y="186840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6"/>
              <p:cNvSpPr/>
              <p:nvPr/>
            </p:nvSpPr>
            <p:spPr>
              <a:xfrm>
                <a:off x="1440" y="6220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" name="Line 37"/>
            <p:cNvSpPr/>
            <p:nvPr/>
          </p:nvSpPr>
          <p:spPr>
            <a:xfrm>
              <a:off x="1440" y="623556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>
              <a:off x="1440" y="561168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ccec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cc66"/>
              </a:buClr>
              <a:buSzPct val="60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ccec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cc66"/>
              </a:buClr>
              <a:buSzPct val="60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3BF81F-3187-466E-B18E-F50671B34B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ork/onlineservices/pador/index_en.htm" TargetMode="External"/><Relationship Id="rId2" Type="http://schemas.openxmlformats.org/officeDocument/2006/relationships/hyperlink" Target="mailto:Europeaid-pador@ec.europa.eu" TargetMode="External"/><Relationship Id="rId3" Type="http://schemas.openxmlformats.org/officeDocument/2006/relationships/hyperlink" Target="mailto:Europeaid-pador@ec.europa.eu" TargetMode="External"/><Relationship Id="rId4" Type="http://schemas.openxmlformats.org/officeDocument/2006/relationships/hyperlink" Target="mailto:Europeaid-pador@ec.europa.eu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prospect" TargetMode="External"/><Relationship Id="rId2" Type="http://schemas.openxmlformats.org/officeDocument/2006/relationships/hyperlink" Target="https://webgate.ec.europa.eu/europeaid/prospect" TargetMode="External"/><Relationship Id="rId3" Type="http://schemas.openxmlformats.org/officeDocument/2006/relationships/hyperlink" Target="https://webgate.ec.europa.eu/europeaid/prospec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DELEGATION-SERBIA-FCS@eeas.europa.eu" TargetMode="External"/><Relationship Id="rId2" Type="http://schemas.openxmlformats.org/officeDocument/2006/relationships/hyperlink" Target="mailto:DELEGATION-SERBIA-FCS@eeas.europa.eu" TargetMode="External"/><Relationship Id="rId3" Type="http://schemas.openxmlformats.org/officeDocument/2006/relationships/hyperlink" Target="https://webgate.ec.europa.eu/europeaid/online-services/index.cfm?do=publi.welcome" TargetMode="External"/><Relationship Id="rId4" Type="http://schemas.openxmlformats.org/officeDocument/2006/relationships/hyperlink" Target="http://www.europa.rs/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ork/procedures/implementation/index_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Naslov 1"/>
          <p:cNvSpPr/>
          <p:nvPr/>
        </p:nvSpPr>
        <p:spPr>
          <a:xfrm>
            <a:off x="685800" y="1523880"/>
            <a:ext cx="77720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  <a:ea typeface="Verdana"/>
              </a:rPr>
              <a:t>Unapređenje uslova života interno raseljenih i povratnika iz procesa readmisije u Srbiju i podrška održivom povratku na Kosovo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Verdan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Verdana"/>
              </a:rPr>
              <a:t>Provision to the improvement of living conditions of IDPs and returnees from readmission process in Serbia and support to the sustainable return to Kosov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  <a:ea typeface="Verdana"/>
              </a:rPr>
              <a:t>EuropeAid/153330/DD/ACT/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GB" sz="3600" spc="-1" strike="noStrike">
                <a:solidFill>
                  <a:schemeClr val="hlink"/>
                </a:solidFill>
                <a:latin typeface="Calibri"/>
                <a:ea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419680" cy="449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7000"/>
          </a:bodyPr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0560" indent="-34056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Učestvuju u pripremi i sprovođenju projekta, a njihovi troškovi se ostvaruju pod jednakim uslovima kao i oni na koje prava ima aplika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0560" indent="-34056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Mora da zadovolji iste kriterijume prijave kao i aplika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0560" indent="-34056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Ko-aplikanti moraju potpisati "Mandate" Aneks A.2 (odeljak 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0560" indent="-34056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Uz već navedene uslove, ko-aplikanti još mogu da budu 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i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	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- </a:t>
            </a: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Gradov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	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- </a:t>
            </a: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Lokalne samouprave-o</a:t>
            </a:r>
            <a:r>
              <a:rPr b="0" lang="sl-SI" sz="2800" spc="-1" strike="noStrike">
                <a:solidFill>
                  <a:schemeClr val="hlink"/>
                </a:solidFill>
                <a:latin typeface="Verdana"/>
              </a:rPr>
              <a:t>pšt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sr-Latn-RS" sz="2800" spc="-1" strike="noStrike">
                <a:solidFill>
                  <a:srgbClr val="ffff00"/>
                </a:solidFill>
                <a:latin typeface="Verdana"/>
              </a:rPr>
              <a:t>Maksimalan broj </a:t>
            </a: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ko-aplikanata</a:t>
            </a:r>
            <a:r>
              <a:rPr b="0" lang="sr-Latn-RS" sz="2800" spc="-1" strike="noStrike">
                <a:solidFill>
                  <a:srgbClr val="ffff00"/>
                </a:solidFill>
                <a:latin typeface="Verdana"/>
              </a:rPr>
              <a:t> i/ili pridruženih lica ne sme de bude veći od tri (3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28600" y="103680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chemeClr val="hlink"/>
                </a:solidFill>
                <a:latin typeface="Verdana"/>
              </a:rPr>
              <a:t>KO-APLIKAN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04920" y="2743200"/>
            <a:ext cx="8381520" cy="3123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Aplikant i ko-aplikant mogu da sprovode projekat sa pridruženim licem(ima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800" spc="-1" strike="noStrike">
                <a:solidFill>
                  <a:schemeClr val="hlink"/>
                </a:solidFill>
                <a:latin typeface="Verdana"/>
              </a:rPr>
              <a:t>Isključivo lica između kojih postoji strukturalna veza, tj. pravna ili kapitalna povezan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800" spc="-1" strike="noStrike">
                <a:solidFill>
                  <a:schemeClr val="hlink"/>
                </a:solidFill>
                <a:latin typeface="Verdana"/>
              </a:rPr>
              <a:t>Pridruženo lice mora da zadovolji uslove prijave kao i aplikant i ko-aplik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PRIDRUŽEN</a:t>
            </a:r>
            <a:r>
              <a:rPr b="0" lang="hr-HR" sz="4000" spc="-1" strike="noStrike">
                <a:solidFill>
                  <a:schemeClr val="hlink"/>
                </a:solidFill>
                <a:latin typeface="Verdana"/>
              </a:rPr>
              <a:t>A</a:t>
            </a: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 LIC</a:t>
            </a:r>
            <a:r>
              <a:rPr b="0" lang="hr-HR" sz="4000" spc="-1" strike="noStrike">
                <a:solidFill>
                  <a:schemeClr val="hlink"/>
                </a:solidFill>
                <a:latin typeface="Verdana"/>
              </a:rPr>
              <a:t>A</a:t>
            </a:r>
            <a:br>
              <a:rPr sz="4000"/>
            </a:br>
            <a:r>
              <a:rPr b="0" lang="hr-HR" sz="3600" spc="-1" strike="noStrike">
                <a:solidFill>
                  <a:schemeClr val="hlink"/>
                </a:solidFill>
                <a:latin typeface="Verdana"/>
              </a:rPr>
              <a:t>(eng. Affiliated entiti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2743200"/>
            <a:ext cx="8381520" cy="3123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Ova strukturna veza uglavnom podrazumeva dva pojma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(i)  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Kontrolu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Tela koja, direktno ili indirektno, kontroliše korisnik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Tela koja, direktno ili indirektno, kontrolišu korisnika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T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ela 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koja su predmet iste direktne ili indirektne kontrole kao i korisni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PRIDRUŽEN</a:t>
            </a:r>
            <a:r>
              <a:rPr b="0" lang="hr-HR" sz="4000" spc="-1" strike="noStrike">
                <a:solidFill>
                  <a:schemeClr val="hlink"/>
                </a:solidFill>
                <a:latin typeface="Verdana"/>
              </a:rPr>
              <a:t>A</a:t>
            </a: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 LIC</a:t>
            </a:r>
            <a:r>
              <a:rPr b="0" lang="hr-HR" sz="4000" spc="-1" strike="noStrike">
                <a:solidFill>
                  <a:schemeClr val="hlink"/>
                </a:solidFill>
                <a:latin typeface="Verdana"/>
              </a:rPr>
              <a:t>A</a:t>
            </a:r>
            <a:br>
              <a:rPr sz="4000"/>
            </a:br>
            <a:r>
              <a:rPr b="0" lang="hr-HR" sz="3600" spc="-1" strike="noStrike">
                <a:solidFill>
                  <a:schemeClr val="hlink"/>
                </a:solidFill>
                <a:latin typeface="Verdana"/>
              </a:rPr>
              <a:t>(eng. Affiliated entiti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04920" y="2743200"/>
            <a:ext cx="8381520" cy="3123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800" spc="-1" strike="noStrike">
                <a:solidFill>
                  <a:schemeClr val="hlink"/>
                </a:solidFill>
                <a:latin typeface="Verdana"/>
              </a:rPr>
              <a:t>(ii)Članstvo, tj. korisnik je zakonski definisan kao npr. mreža, savez, udruženje u kome predložena povezana tela takođe učestvuju ili korisnik učestvuje u istom telu (npr. mreža, savez, udruženje) kao i predložena povezana tel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Arial"/>
              </a:rPr>
              <a:t>PRIDRUŽEN</a:t>
            </a: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chemeClr val="hlink"/>
                </a:solidFill>
                <a:latin typeface="Arial"/>
              </a:rPr>
              <a:t> LIC</a:t>
            </a: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A</a:t>
            </a:r>
            <a:br>
              <a:rPr sz="4000"/>
            </a:br>
            <a:r>
              <a:rPr b="0" lang="hr-HR" sz="3600" spc="-1" strike="noStrike">
                <a:solidFill>
                  <a:schemeClr val="hlink"/>
                </a:solidFill>
                <a:latin typeface="Arial"/>
              </a:rPr>
              <a:t>(eng. Affiliated entiti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8229240" cy="297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Saradnici (</a:t>
            </a:r>
            <a:r>
              <a:rPr b="0" i="1" lang="en-US" sz="2400" spc="-1" strike="noStrike">
                <a:solidFill>
                  <a:schemeClr val="hlink"/>
                </a:solidFill>
                <a:latin typeface="Verdana"/>
              </a:rPr>
              <a:t>eng. Associates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) – druge organizacije koje mogu biti uključene u akciju, ali ne mogu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biti finansijski podržane iz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 sredst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va granta,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sa izuzetkom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 troškova putovanja i dnevnic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Ne moraju da zadovolje kriterijume za prijavu, ali moraju da budu predstavljeni u Delu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A.2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, sekcija 6 formulara za prijavu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chemeClr val="hlink"/>
                </a:solidFill>
                <a:latin typeface="Verdana"/>
              </a:rPr>
              <a:t>SARADNIC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240" cy="35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Korisnici granta, kao i njihova pridružena lica mogu da dodeljuju ugovore za radove, robu i usluge izvođačima (</a:t>
            </a:r>
            <a:r>
              <a:rPr b="0" i="1" lang="en-US" sz="2800" spc="-1" strike="noStrike">
                <a:solidFill>
                  <a:schemeClr val="hlink"/>
                </a:solidFill>
                <a:latin typeface="Verdana"/>
              </a:rPr>
              <a:t>eng. Contractors</a:t>
            </a: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) pod uslovima za nabavku propisanim u Dodatku IV grant ugovor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Saradnici i pridružena lica </a:t>
            </a:r>
            <a:r>
              <a:rPr b="1" lang="en-US" sz="2800" spc="-1" strike="noStrike">
                <a:solidFill>
                  <a:schemeClr val="hlink"/>
                </a:solidFill>
                <a:latin typeface="Verdana"/>
              </a:rPr>
              <a:t>NE</a:t>
            </a: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 mogu da budu i izvođači u okviru projek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chemeClr val="hlink"/>
                </a:solidFill>
                <a:latin typeface="Verdana"/>
              </a:rPr>
              <a:t>IZVOĐAČ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Minimum</a:t>
            </a:r>
            <a:r>
              <a:rPr b="0" lang="hr-HR" sz="3200" spc="-1" strike="noStrike">
                <a:solidFill>
                  <a:schemeClr val="hlink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sr-Latn-CS" sz="3200" spc="-1" strike="noStrike">
                <a:solidFill>
                  <a:schemeClr val="hlink"/>
                </a:solidFill>
                <a:latin typeface="Verdana"/>
              </a:rPr>
              <a:t>1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8 mese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Ma</a:t>
            </a:r>
            <a:r>
              <a:rPr b="0" lang="sr-Latn-CS" sz="3200" spc="-1" strike="noStrike">
                <a:solidFill>
                  <a:schemeClr val="hlink"/>
                </a:solidFill>
                <a:latin typeface="Verdana"/>
              </a:rPr>
              <a:t>ks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imum</a:t>
            </a:r>
            <a:r>
              <a:rPr b="0" lang="hr-HR" sz="3200" spc="-1" strike="noStrike">
                <a:solidFill>
                  <a:schemeClr val="hlink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sr-Latn-CS" sz="32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24 mesec</a:t>
            </a:r>
            <a:r>
              <a:rPr b="0" lang="hr-HR" sz="3200" spc="-1" strike="noStrike">
                <a:solidFill>
                  <a:schemeClr val="hlink"/>
                </a:solidFill>
                <a:latin typeface="Verdana"/>
              </a:rPr>
              <a:t>i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DOZVOLJENO TRAJANJE PROJEKTA</a:t>
            </a:r>
            <a:r>
              <a:rPr b="0" lang="sl-SI" sz="4000" spc="-1" strike="noStrike">
                <a:solidFill>
                  <a:schemeClr val="hlink"/>
                </a:solidFill>
                <a:latin typeface="Verdana"/>
              </a:rPr>
              <a:t> (za oba LOT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8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it-IT" sz="4400" spc="-1" strike="noStrike">
                <a:solidFill>
                  <a:schemeClr val="hlink"/>
                </a:solidFill>
                <a:latin typeface="Verdana"/>
              </a:rPr>
              <a:t>Aktivnosti se moraju sprovoditi </a:t>
            </a:r>
            <a:r>
              <a:rPr b="1" lang="it-IT" sz="4400" spc="-1" strike="noStrike">
                <a:solidFill>
                  <a:schemeClr val="hlink"/>
                </a:solidFill>
                <a:latin typeface="Verdana"/>
              </a:rPr>
              <a:t>isklju</a:t>
            </a:r>
            <a:r>
              <a:rPr b="1" lang="hr-HR" sz="4400" spc="-1" strike="noStrike">
                <a:solidFill>
                  <a:schemeClr val="hlink"/>
                </a:solidFill>
                <a:latin typeface="Verdana"/>
              </a:rPr>
              <a:t>čivo </a:t>
            </a:r>
            <a:r>
              <a:rPr b="0" lang="it-IT" sz="4400" spc="-1" strike="noStrike">
                <a:solidFill>
                  <a:schemeClr val="hlink"/>
                </a:solidFill>
                <a:latin typeface="Verdana"/>
              </a:rPr>
              <a:t>u Republici Srbiji</a:t>
            </a:r>
            <a:r>
              <a:rPr b="0" lang="hr-HR" sz="4400" spc="-1" strike="noStrike">
                <a:solidFill>
                  <a:schemeClr val="hlink"/>
                </a:solidFill>
                <a:latin typeface="Verdana"/>
              </a:rPr>
              <a:t> za oba lot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Verdana"/>
              </a:rPr>
              <a:t>MESTO REALIZACIJE PROJEK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4578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Unapređenje uslova života i socijalno uključivanje interno raseljenih i povratnika po Sporazumu o readmisij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Održiv povratak na Kosov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CS" sz="3600" spc="-1" strike="noStrike">
                <a:solidFill>
                  <a:schemeClr val="hlink"/>
                </a:solidFill>
                <a:latin typeface="Verdana"/>
              </a:rPr>
              <a:t>TEME KONKUR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4578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LOT 1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Obezbedjivanje stambenih rešenja za interno raseljene i povratnike po Sporazumu o readmisi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Distribucija ekonomskih paketa za unapređenje samoodrživih životnih usl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drška implementaciji 30 lokalnih akcionih planova za unapređenje položaja interno raseljenih i povratn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CS" sz="3600" spc="-1" strike="noStrike">
                <a:solidFill>
                  <a:schemeClr val="hlink"/>
                </a:solidFill>
                <a:latin typeface="Verdana"/>
              </a:rPr>
              <a:t>TEME KONKUR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2136600"/>
            <a:ext cx="85341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Disclaim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This presentation represents summary and an unofficial translation of published Guide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In the case of any discrepancy between the Serbian and English version, the English version shall prevail and is to be considered as legally binding doc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The version in Serbian is provided for information purpose only and cannot be considered as part of the call for propos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4578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</a:tabLst>
            </a:pPr>
            <a:r>
              <a:rPr b="0" lang="sr-Latn-CS" sz="2400" spc="-1" strike="noStrike">
                <a:solidFill>
                  <a:schemeClr val="hlink"/>
                </a:solidFill>
                <a:latin typeface="Verdana"/>
              </a:rPr>
              <a:t>LOT 2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Planiranje i sprovođenje informativnih kampan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Pregled kriterijuma za povratak i identifikacija interno raseljenih i povratničkih zajedn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Sprovođenje Idi i Vidi pose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Obezbediti pomoć prilikom administativnih pitanja u vezi preseljenj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Obezbediti prevoz do mesta povrat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Osmisliti i sprovesti trening programe i obu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35568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CS" sz="3600" spc="-1" strike="noStrike">
                <a:solidFill>
                  <a:schemeClr val="hlink"/>
                </a:solidFill>
                <a:latin typeface="Verdana"/>
              </a:rPr>
              <a:t>TEME KONKUR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3520" y="2895480"/>
            <a:ext cx="8229240" cy="327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drška socijalnom uključivanju interno raseljeni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drška socijalnom uključivanju povratnika po Sporazumu o readmisi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drška održivom povratku na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Kosovo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CS" sz="3600" spc="-1" strike="noStrike">
                <a:solidFill>
                  <a:schemeClr val="hlink"/>
                </a:solidFill>
                <a:latin typeface="Verdana"/>
              </a:rPr>
              <a:t>VRSTE PROJEKATA ( TYPES OF ACTION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533520" y="259092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drška lokalnim samoupravama u implementaciji lokalnih akcionih planova koji se bave socijalnim uključivanjem interno raseljenih i povratnika po Sporazumu o readmisi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Zaštita socijalnih, ekonomskih i kulturnih prava grupa koje su posebno izložene diskriminaciji, kao što su interno raseljeni i povratnici po Sporazumu o readmisi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CS" sz="3600" spc="-1" strike="noStrike">
                <a:solidFill>
                  <a:schemeClr val="hlink"/>
                </a:solidFill>
                <a:latin typeface="Verdana"/>
              </a:rPr>
              <a:t>VRSTE PROJEK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8229240" cy="381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3000"/>
          </a:bodyPr>
          <a:p>
            <a:pPr marL="344520" indent="-34452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Akcije koje se sastoje samo ili pretežno od individualnog sponzorstva za učestvovanje u radionicama, seminarima, konferencijama i kongresi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4520" indent="-34452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Akcije koje se sastoje samo ili pretežno od individualnih stipendija za studiranje ili kursev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4520" indent="-34452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Akcije primarno usmerene na aktivnosti izgradnje objekata, nabavku opreme, nabavku i/ili renoviranje zgrada i kancelarij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4520" indent="-34452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Akcije usmerene primarno na davanja i donacije, kao i one profitnog usmerenj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4520" indent="-34452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Akcije koje su već finan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s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irane iz drugih EU programa i one čije je sprovođenje započelo pre potpisivanja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ugovora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3600" spc="-1" strike="noStrike">
                <a:solidFill>
                  <a:schemeClr val="hlink"/>
                </a:solidFill>
                <a:latin typeface="Verdana"/>
              </a:rPr>
              <a:t>NEDOZVOLJENE VRSTE PROJEKATA (ACTION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8229240" cy="381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4000" spc="-1" strike="noStrike">
                <a:solidFill>
                  <a:schemeClr val="hlink"/>
                </a:solidFill>
                <a:latin typeface="Verdana"/>
              </a:rPr>
              <a:t>Aplikanti </a:t>
            </a:r>
            <a:r>
              <a:rPr b="0" lang="sr-Latn-RS" sz="4000" spc="-1" strike="noStrike" u="sng">
                <a:solidFill>
                  <a:schemeClr val="hlink"/>
                </a:solidFill>
                <a:uFillTx/>
                <a:latin typeface="Verdana"/>
              </a:rPr>
              <a:t>ne mogu predložiti finansijsku podršku trećim stranam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3600" spc="-1" strike="noStrike">
                <a:solidFill>
                  <a:schemeClr val="hlink"/>
                </a:solidFill>
                <a:latin typeface="Verdana"/>
              </a:rPr>
              <a:t>GRANTOVI TREĆIM STRANA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8524440" cy="457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9000"/>
          </a:bodyPr>
          <a:p>
            <a:pPr marL="366840" indent="-366840" algn="just">
              <a:lnSpc>
                <a:spcPct val="9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Aplikant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E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može dostaviti više od jednog predloga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projekta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po</a:t>
            </a: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 lotu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u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okviru ovog konkursa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6840" indent="-366840" algn="just">
              <a:lnSpc>
                <a:spcPct val="9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Aplikantu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E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može da bude odobreno više od jednog granta 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po </a:t>
            </a: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lotu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u okviru ovog konkursa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6840" indent="-366840" algn="just">
              <a:lnSpc>
                <a:spcPct val="9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Aplikant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E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može da bude ko-aplikant ili pridruženo lice u drugom predlogu projekta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u istom </a:t>
            </a: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lotu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u isto vreme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6840" indent="-366840" algn="just">
              <a:lnSpc>
                <a:spcPct val="9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Ko-aplikant/pridruženo lice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E 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može dostaviti više od jednog predloga projekta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po </a:t>
            </a: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lotu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u okviru ovog konkursa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6840" indent="-366840" algn="just">
              <a:lnSpc>
                <a:spcPct val="9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Ko-aplikantu/pridruženo lic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E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može da bude odobreno više od jednog granta 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po </a:t>
            </a: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lotu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u okviru ovog konkursa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Verdana"/>
              </a:rPr>
              <a:t>Napomena</a:t>
            </a: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: </a:t>
            </a:r>
            <a:r>
              <a:rPr b="0" lang="hr-HR" sz="2100" spc="-1" strike="noStrike">
                <a:solidFill>
                  <a:srgbClr val="ffff00"/>
                </a:solidFill>
                <a:latin typeface="Verdana"/>
              </a:rPr>
              <a:t>Nepoštovanjem </a:t>
            </a: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gore naveden</a:t>
            </a:r>
            <a:r>
              <a:rPr b="0" lang="hr-HR" sz="2100" spc="-1" strike="noStrike">
                <a:solidFill>
                  <a:srgbClr val="ffff00"/>
                </a:solidFill>
                <a:latin typeface="Verdana"/>
              </a:rPr>
              <a:t>i</a:t>
            </a: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h pravila konkursa odbija</a:t>
            </a:r>
            <a:r>
              <a:rPr b="0" lang="hr-HR" sz="2100" spc="-1" strike="noStrike">
                <a:solidFill>
                  <a:srgbClr val="ffff00"/>
                </a:solidFill>
                <a:latin typeface="Verdana"/>
              </a:rPr>
              <a:t>ju se </a:t>
            </a:r>
            <a:r>
              <a:rPr b="0" lang="en-US" sz="2100" spc="-1" strike="noStrike" u="sng">
                <a:solidFill>
                  <a:srgbClr val="ffff00"/>
                </a:solidFill>
                <a:uFillTx/>
                <a:latin typeface="Verdana"/>
              </a:rPr>
              <a:t>svi predlo</a:t>
            </a:r>
            <a:r>
              <a:rPr b="0" lang="hr-HR" sz="2100" spc="-1" strike="noStrike" u="sng">
                <a:solidFill>
                  <a:srgbClr val="ffff00"/>
                </a:solidFill>
                <a:uFillTx/>
                <a:latin typeface="Verdana"/>
              </a:rPr>
              <a:t>zi</a:t>
            </a:r>
            <a:r>
              <a:rPr b="0" lang="en-US" sz="2100" spc="-1" strike="noStrike" u="sng">
                <a:solidFill>
                  <a:srgbClr val="ffff00"/>
                </a:solidFill>
                <a:uFillTx/>
                <a:latin typeface="Verdana"/>
              </a:rPr>
              <a:t> projekata/prijava</a:t>
            </a:r>
            <a:r>
              <a:rPr b="0" lang="hr-HR" sz="2100" spc="-1" strike="noStrike" u="sng">
                <a:solidFill>
                  <a:srgbClr val="ffff00"/>
                </a:solidFill>
                <a:uFillTx/>
                <a:latin typeface="Verdana"/>
              </a:rPr>
              <a:t> u kojima se nalaze isti aplikant, ko-aplikant ili pridruženo lic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304920" y="1371600"/>
            <a:ext cx="822924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chemeClr val="hlink"/>
                </a:solidFill>
                <a:latin typeface="Arial"/>
              </a:rPr>
              <a:t>DOZVOLJENI BROJ PREDLOGA PROJEKATA/PRIJA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24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600" spc="-1" strike="noStrike">
                <a:solidFill>
                  <a:schemeClr val="hlink"/>
                </a:solidFill>
                <a:latin typeface="Verdana"/>
              </a:rPr>
              <a:t>Jedino dopušteni</a:t>
            </a:r>
            <a:r>
              <a:rPr b="0" lang="sl-SI" sz="2600" spc="-1" strike="noStrike">
                <a:solidFill>
                  <a:schemeClr val="hlink"/>
                </a:solidFill>
                <a:latin typeface="Verdana"/>
              </a:rPr>
              <a:t> (eligible)</a:t>
            </a:r>
            <a:r>
              <a:rPr b="0" lang="en-US" sz="2600" spc="-1" strike="noStrike">
                <a:solidFill>
                  <a:schemeClr val="hlink"/>
                </a:solidFill>
                <a:latin typeface="Verdana"/>
              </a:rPr>
              <a:t> troškovi mogu da budu pokriveni granto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600" spc="-1" strike="noStrike">
                <a:solidFill>
                  <a:schemeClr val="hlink"/>
                </a:solidFill>
                <a:latin typeface="Verdana"/>
              </a:rPr>
              <a:t>Stvarni</a:t>
            </a:r>
            <a:r>
              <a:rPr b="0" lang="sl-SI" sz="2600" spc="-1" strike="noStrike">
                <a:solidFill>
                  <a:schemeClr val="hlink"/>
                </a:solidFill>
                <a:latin typeface="Verdana"/>
              </a:rPr>
              <a:t> (actual)</a:t>
            </a:r>
            <a:r>
              <a:rPr b="0" lang="en-US" sz="2600" spc="-1" strike="noStrike">
                <a:solidFill>
                  <a:schemeClr val="hlink"/>
                </a:solidFill>
                <a:latin typeface="Verdana"/>
              </a:rPr>
              <a:t> troškovi nastali od strane korisnika i/ili pridruženog lic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600" spc="-1" strike="noStrike">
                <a:solidFill>
                  <a:schemeClr val="hlink"/>
                </a:solidFill>
                <a:latin typeface="Verdana"/>
              </a:rPr>
              <a:t>Jedna ili više pojednostavljenih opcija troškov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600" spc="-1" strike="noStrike">
                <a:solidFill>
                  <a:schemeClr val="hlink"/>
                </a:solidFill>
                <a:latin typeface="Verdana"/>
              </a:rPr>
              <a:t>U svrhu sprovođenja ovog konkursa pojednostavljeni troškovi dozvoljeni su isključivo za budžetske stavke 1.1 i 1.2 Plat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l-SI" sz="2600" spc="-1" strike="noStrike">
                <a:solidFill>
                  <a:schemeClr val="hlink"/>
                </a:solidFill>
                <a:latin typeface="Verdana"/>
              </a:rPr>
              <a:t>Ne mogu biti veći od EUR 60,000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304920" y="129528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Wingdings" charset="2"/>
              <a:buChar char=""/>
            </a:pPr>
            <a:r>
              <a:rPr b="0" lang="vi-VN" sz="2600" spc="-1" strike="noStrike">
                <a:solidFill>
                  <a:schemeClr val="hlink"/>
                </a:solidFill>
                <a:latin typeface="Verdana"/>
              </a:rPr>
              <a:t>Prihvatljivi direktni troškovi moraju biti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</a:pPr>
            <a:r>
              <a:rPr b="0" lang="vi-VN" sz="2600" spc="-1" strike="noStrike">
                <a:solidFill>
                  <a:schemeClr val="hlink"/>
                </a:solidFill>
                <a:latin typeface="Verdana"/>
              </a:rPr>
              <a:t>neophodni za sprovođenje aktivnosti</a:t>
            </a:r>
            <a:r>
              <a:rPr b="0" lang="hr-HR" sz="2600" spc="-1" strike="noStrike">
                <a:solidFill>
                  <a:schemeClr val="hlink"/>
                </a:solidFill>
                <a:latin typeface="Verdan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</a:pPr>
            <a:r>
              <a:rPr b="0" lang="vi-VN" sz="2600" spc="-1" strike="noStrike">
                <a:solidFill>
                  <a:schemeClr val="hlink"/>
                </a:solidFill>
                <a:latin typeface="Verdana"/>
              </a:rPr>
              <a:t>stvarni troškovi korisnika ili partnera tokom implementacije projekta</a:t>
            </a:r>
            <a:r>
              <a:rPr b="0" lang="hr-HR" sz="2600" spc="-1" strike="noStrike">
                <a:solidFill>
                  <a:schemeClr val="hlink"/>
                </a:solidFill>
                <a:latin typeface="Verdan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</a:pPr>
            <a:r>
              <a:rPr b="0" lang="vi-VN" sz="2600" spc="-1" strike="noStrike">
                <a:solidFill>
                  <a:schemeClr val="hlink"/>
                </a:solidFill>
                <a:latin typeface="Verdana"/>
              </a:rPr>
              <a:t>evidentirani na računima korisnika granta ili partnera odnosno podržani originalnom pratećom dokumentacijom, čiji je identitet moguće utvrditi i verifikovati</a:t>
            </a:r>
            <a:r>
              <a:rPr b="0" lang="sl-SI" sz="2600" spc="-1" strike="noStrike">
                <a:solidFill>
                  <a:schemeClr val="hlink"/>
                </a:solidFill>
                <a:latin typeface="Verdan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240" cy="449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Prihvatljivi direktni troškovi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uključuju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lične dohotke osoblja angažovanog na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sprovođenju aktivnosti koji odgovaraju stvarnim platama (bruto iznosi koji uključuju i sva socijalno-penziona davanja i doprino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troškove putovanja i osnovnih potreba osoblja uključenog u aktivnosti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nabavku ili iznajmljivanje opreme i sredstava za </a:t>
            </a: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	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potrebe projekta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, 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troškove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neophodnih 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uslug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Wingdings" charset="2"/>
              <a:buChar char=""/>
              <a:tabLst>
                <a:tab algn="l" pos="0"/>
              </a:tabLst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Svi troškovi moraju biti jasno opravdani kroz samu aktivnost i njihova provera će biti vršena u skladu sa odredbama Grant ugovo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Grant ugovor se ne može koristiti u svrhu sticanja profita, već samo za pokrivanje troškova koji su rezultat  sprovođenja projektnih aktivnost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Detaljna objašnjenja u vezi sa</a:t>
            </a:r>
            <a:r>
              <a:rPr b="1" lang="hr-HR" sz="2200" spc="-1" strike="noStrike">
                <a:solidFill>
                  <a:srgbClr val="ffff00"/>
                </a:solidFill>
                <a:latin typeface="Verdana"/>
              </a:rPr>
              <a:t> budžet</a:t>
            </a: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om</a:t>
            </a:r>
            <a:r>
              <a:rPr b="1" lang="hr-HR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avedena</a:t>
            </a:r>
            <a:r>
              <a:rPr b="1" lang="hr-HR" sz="2200" spc="-1" strike="noStrike">
                <a:solidFill>
                  <a:srgbClr val="ffff00"/>
                </a:solidFill>
                <a:latin typeface="Verdana"/>
              </a:rPr>
              <a:t> su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 u Članu 14. Opštih uslova za Grant ugovore (Annex G Smernica, General Condition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Program je finansiran iz IPA budžeta za 2014 godinu koji iznosi 5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.</a:t>
            </a: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600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.</a:t>
            </a: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000 ev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Cilj programa je da doprinese uspostavljanju vladavine prava u Srbiji kroz jačanje upravljanja migracijama i kontrole gra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Nepredviđeni troškovi (Contingency reser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0"/>
              </a:tabLst>
            </a:pPr>
            <a:r>
              <a:rPr b="0" lang="vi-VN" sz="2000" spc="-1" strike="noStrike">
                <a:solidFill>
                  <a:schemeClr val="hlink"/>
                </a:solidFill>
                <a:latin typeface="Verdana"/>
              </a:rPr>
              <a:t>Kandidat može uključiti u budžetski predlog i 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   </a:t>
            </a:r>
            <a:r>
              <a:rPr b="0" lang="vi-VN" sz="2000" spc="-1" strike="noStrike">
                <a:solidFill>
                  <a:schemeClr val="hlink"/>
                </a:solidFill>
                <a:latin typeface="Verdana"/>
              </a:rPr>
              <a:t>okvirnu sumu do 5% od direktnih troškova kao rezervu za nepredviđene okolnost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0"/>
              </a:tabLst>
            </a:pPr>
            <a:r>
              <a:rPr b="0" lang="vi-VN" sz="2000" spc="-1" strike="noStrike">
                <a:solidFill>
                  <a:schemeClr val="hlink"/>
                </a:solidFill>
                <a:latin typeface="Verdana"/>
              </a:rPr>
              <a:t>Ova sredstva se mogu koristiti samo uz</a:t>
            </a:r>
            <a:r>
              <a:rPr b="0" lang="sl-SI" sz="20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vi-VN" sz="2000" spc="-1" strike="noStrike">
                <a:solidFill>
                  <a:schemeClr val="hlink"/>
                </a:solidFill>
                <a:latin typeface="Verdana"/>
              </a:rPr>
              <a:t>prethodno pismeno odobrenje od strane EU Delegacije kao davaoca gran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0"/>
              </a:tabLst>
            </a:pPr>
            <a:r>
              <a:rPr b="0" lang="vi-VN" sz="2000" spc="-1" strike="noStrike">
                <a:solidFill>
                  <a:schemeClr val="hlink"/>
                </a:solidFill>
                <a:latin typeface="Verdana"/>
              </a:rPr>
              <a:t>Ova sredstva se mogu ukljuciti u predlog budžeta samo uz detaljno obrazloženje, inače neće biti prihvaćena u fazi odobrenja budžeta projekta (budget clear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Prihvatljivi indirektni troškovi (overheads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m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aksimalno 7% od ukupnog iznosa prihvatljivih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troškova projekta može biti </a:t>
            </a: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dvojeno za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indirektne (administrativne) troškov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Pre potpisivanja ugovora aplikant može biti pozvan da obrazloži traženi procena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8229240" cy="441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Neprihvatljivi troškov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1900" spc="-1" strike="noStrike">
                <a:solidFill>
                  <a:schemeClr val="hlink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dugovi i kam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gubi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stavke već finansirane u okviru drugog EU projek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kupovina zemljiš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gubici usled kursnih razli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porezi (PDV), carine i uvozne takse ili bilo kakve druge  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nakna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krediti trećim lici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troškovi ličnih dohodaka osoba zaposlenih u državnoj 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uprav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00000" indent="-44928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nenovčano učešće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(in kind contribution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00000" indent="-44928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prof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0720" indent="0" algn="just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Verdana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2000"/>
          </a:bodyPr>
          <a:p>
            <a:pPr marL="340920" indent="-340920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Obavezna registracija u </a:t>
            </a:r>
            <a:r>
              <a:rPr b="1" lang="sr-Latn-RS" sz="2800" spc="-1" strike="noStrike">
                <a:solidFill>
                  <a:schemeClr val="hlink"/>
                </a:solidFill>
                <a:latin typeface="Verdana"/>
              </a:rPr>
              <a:t>PADOR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 sistemu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432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8720" indent="-2840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Faza 1, koncept projekta (eng. </a:t>
            </a:r>
            <a:r>
              <a:rPr b="0" i="1" lang="sr-Latn-RS" sz="2400" spc="-1" strike="noStrike">
                <a:solidFill>
                  <a:schemeClr val="hlink"/>
                </a:solidFill>
                <a:latin typeface="Verdana"/>
              </a:rPr>
              <a:t>Concept note</a:t>
            </a: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6520" indent="-227160">
              <a:lnSpc>
                <a:spcPct val="9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000" spc="-1" strike="noStrike">
                <a:solidFill>
                  <a:schemeClr val="hlink"/>
                </a:solidFill>
                <a:latin typeface="Verdana"/>
              </a:rPr>
              <a:t>Obavezn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91200" indent="-227160">
              <a:lnSpc>
                <a:spcPct val="90000"/>
              </a:lnSpc>
              <a:spcBef>
                <a:spcPts val="360"/>
              </a:spcBef>
              <a:buClr>
                <a:srgbClr val="ccec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sr-Latn-RS" sz="1800" spc="-1" strike="noStrike">
                <a:solidFill>
                  <a:schemeClr val="hlink"/>
                </a:solidFill>
                <a:latin typeface="Verdana"/>
              </a:rPr>
              <a:t>za prijave iznad 60.000,00 ev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36520" indent="-227160">
              <a:lnSpc>
                <a:spcPct val="9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000" spc="-1" strike="noStrike">
                <a:solidFill>
                  <a:schemeClr val="hlink"/>
                </a:solidFill>
                <a:latin typeface="Verdana"/>
              </a:rPr>
              <a:t>Nije obavezn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91200" indent="-227160">
              <a:lnSpc>
                <a:spcPct val="90000"/>
              </a:lnSpc>
              <a:spcBef>
                <a:spcPts val="360"/>
              </a:spcBef>
              <a:buClr>
                <a:srgbClr val="ccec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sr-Latn-RS" sz="1800" spc="-1" strike="noStrike">
                <a:solidFill>
                  <a:schemeClr val="hlink"/>
                </a:solidFill>
                <a:latin typeface="Verdana"/>
              </a:rPr>
              <a:t>za prijave ispod 60.000,00 evr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591200" indent="-227160">
              <a:lnSpc>
                <a:spcPct val="90000"/>
              </a:lnSpc>
              <a:spcBef>
                <a:spcPts val="360"/>
              </a:spcBef>
              <a:buClr>
                <a:srgbClr val="ccec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sr-Latn-RS" sz="1800" spc="-1" strike="noStrike">
                <a:solidFill>
                  <a:schemeClr val="hlink"/>
                </a:solidFill>
                <a:latin typeface="Verdana"/>
              </a:rPr>
              <a:t>za ko-aplikanta(e) i pridruženo lice(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38720" indent="-2840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Faza 2, finalni predlog (eng. </a:t>
            </a:r>
            <a:r>
              <a:rPr b="0" i="1" lang="sr-Latn-RS" sz="2400" spc="-1" strike="noStrike">
                <a:solidFill>
                  <a:schemeClr val="hlink"/>
                </a:solidFill>
                <a:latin typeface="Verdana"/>
              </a:rPr>
              <a:t>Full proposal</a:t>
            </a: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6520" indent="-227160">
              <a:lnSpc>
                <a:spcPct val="9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000" spc="-1" strike="noStrike">
                <a:solidFill>
                  <a:schemeClr val="hlink"/>
                </a:solidFill>
                <a:latin typeface="Verdana"/>
              </a:rPr>
              <a:t>Obavezno za sve aplikante, ko-aplikante i pridružena lica čiji su koncepti odobreni u prvoj fazi (</a:t>
            </a:r>
            <a:r>
              <a:rPr b="0" i="1" lang="sr-Latn-RS" sz="2000" spc="-1" strike="noStrike">
                <a:solidFill>
                  <a:schemeClr val="hlink"/>
                </a:solidFill>
                <a:latin typeface="Verdana"/>
              </a:rPr>
              <a:t>eng. Pre-selected</a:t>
            </a:r>
            <a:r>
              <a:rPr b="0" lang="sr-Latn-RS" sz="2000" spc="-1" strike="noStrike">
                <a:solidFill>
                  <a:schemeClr val="hlink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sr-Latn-RS" sz="2400" spc="-1" strike="noStrike">
                <a:solidFill>
                  <a:srgbClr val="ffff00"/>
                </a:solidFill>
                <a:latin typeface="Verdana"/>
              </a:rPr>
              <a:t>PREPORUKA: Svi aplikanti, ko-aplikanti i pridružena lica bi trebalo da se registruju u PADOR-u još u prvoj fazi (Concept note) bez obzira na izn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Arial"/>
              </a:rPr>
              <a:t>PROCEDURA PRIJAVLJIVANJ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29240" cy="449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5000"/>
          </a:bodyPr>
          <a:p>
            <a:pPr marL="331560" indent="-33156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Konkursna 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dokumentacija 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(Koncept projekata i finalni projekat ) salju se elektronskim putem kroz PROSP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VAŽNO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31560" indent="-33156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Prijave su </a:t>
            </a:r>
            <a:r>
              <a:rPr b="1" lang="sr-Latn-RS" sz="2600" spc="-1" strike="noStrike">
                <a:solidFill>
                  <a:srgbClr val="ffff00"/>
                </a:solidFill>
                <a:latin typeface="Verdana"/>
              </a:rPr>
              <a:t>OBAVEZNE kroz on-line sistem PROSPECT</a:t>
            </a: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. Sve prijave podnete na bilo koji drugi način biće automatski odbijen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31560" indent="-33156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Započeti proces aplikacije u PROSPECT sistemu što pre, nikako poslednji minut pred rok za podnošenje prijave - problemi mogu nastati zbog gubitka interneta ili nestanka struje i sl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sr-Latn-RS" sz="2600" spc="-1" strike="noStrike">
                <a:solidFill>
                  <a:srgbClr val="ffff00"/>
                </a:solidFill>
                <a:latin typeface="Verdana"/>
              </a:rPr>
              <a:t>DEU ne snosi odgovornost ukoliko zbog gore navedenih razloga ili nekih drugih problema dođe do kašnjenja prilikom podnošenja prijav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Verdana"/>
              </a:rPr>
              <a:t>PROCEDURA PRIJAVLJIVANJ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04920" y="2438280"/>
            <a:ext cx="8229240" cy="3927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Elektronska baza podataka organizacija koja treba redovno da se ažurira putem: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	</a:t>
            </a:r>
            <a:r>
              <a:rPr b="0" lang="sr-Latn-RS" sz="2300" spc="-1" strike="noStrike" u="sng">
                <a:solidFill>
                  <a:schemeClr val="hlink"/>
                </a:solidFill>
                <a:uFillTx/>
                <a:latin typeface="Verdana"/>
                <a:hlinkClick r:id="rId1"/>
              </a:rPr>
              <a:t>http://ec.europa.eu/europeaid/work/onlineservices/pador/index_en.ht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Važno je da započnete proces registracije u PADOR sistemu što pre, nikako ne čekajte rok za podnošenje prijave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Kao rezultat prijave u PADOR sistemu, dobićete identifikacioni broj koji treba da se koristi pri popunjavanju prijave projekta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Sva dodatna pitanja uputite na: </a:t>
            </a:r>
            <a:r>
              <a:rPr b="0" lang="sr-Latn-RS" sz="2300" spc="-1" strike="noStrike" u="sng">
                <a:solidFill>
                  <a:schemeClr val="hlink"/>
                </a:solidFill>
                <a:uFillTx/>
                <a:latin typeface="Verdana"/>
                <a:hlinkClick r:id="rId2"/>
              </a:rPr>
              <a:t>Europeaid</a:t>
            </a:r>
            <a:r>
              <a:rPr b="0" lang="sr-Latn-RS" sz="2300" spc="-1" strike="noStrike" u="sng">
                <a:solidFill>
                  <a:schemeClr val="hlink"/>
                </a:solidFill>
                <a:uFillTx/>
                <a:latin typeface="Verdana"/>
                <a:hlinkClick r:id="rId3"/>
              </a:rPr>
              <a:t>-</a:t>
            </a:r>
            <a:r>
              <a:rPr b="0" lang="sr-Latn-RS" sz="2300" spc="-1" strike="noStrike" u="sng">
                <a:solidFill>
                  <a:schemeClr val="hlink"/>
                </a:solidFill>
                <a:uFillTx/>
                <a:latin typeface="Verdana"/>
                <a:hlinkClick r:id="rId4"/>
              </a:rPr>
              <a:t>pador@ec.europa.eu</a:t>
            </a: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400" spc="-1" strike="noStrike">
                <a:solidFill>
                  <a:schemeClr val="hlink"/>
                </a:solidFill>
                <a:latin typeface="Verdana"/>
              </a:rPr>
              <a:t>PAD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Slika 11" descr="Graphics2:EUROPEAID:DG-EA_visibility%20Guidelines:3.%20STUDIO:5.%20Images%20HR:flag_2colors.jpg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240" cy="449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marL="326160" indent="-32616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Pratiti uputstva za izradu iz prijavnog formulara, (objavljeni Aneks A1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6160" indent="-32616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Priprema se na engleskom jeziku i u elektronskom obliku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6160" indent="-32616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 u="sng">
                <a:solidFill>
                  <a:schemeClr val="hlink"/>
                </a:solidFill>
                <a:uFillTx/>
                <a:latin typeface="Verdana"/>
              </a:rPr>
              <a:t>Prijava se šalje kroz PROSPECT : </a:t>
            </a:r>
            <a:r>
              <a:rPr b="0" lang="sr-Latn-RS" sz="2400" spc="-1" strike="noStrike" u="sng">
                <a:solidFill>
                  <a:schemeClr val="hlink"/>
                </a:solidFill>
                <a:uFillTx/>
                <a:latin typeface="Verdana"/>
                <a:hlinkClick r:id="rId1"/>
              </a:rPr>
              <a:t>https</a:t>
            </a:r>
            <a:r>
              <a:rPr b="0" lang="sr-Latn-RS" sz="2400" spc="-1" strike="noStrike" u="sng">
                <a:solidFill>
                  <a:schemeClr val="hlink"/>
                </a:solidFill>
                <a:uFillTx/>
                <a:latin typeface="Verdana"/>
                <a:hlinkClick r:id="rId2"/>
              </a:rPr>
              <a:t>://</a:t>
            </a:r>
            <a:r>
              <a:rPr b="0" lang="sr-Latn-RS" sz="2400" spc="-1" strike="noStrike" u="sng">
                <a:solidFill>
                  <a:schemeClr val="hlink"/>
                </a:solidFill>
                <a:uFillTx/>
                <a:latin typeface="Verdana"/>
                <a:hlinkClick r:id="rId3"/>
              </a:rPr>
              <a:t>webgate.ec.europa.eu/europeaid/prosp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6160" indent="-32616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Aplikant ce dobiti automatsku potvrdu da je aplikacija primlje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sr-Latn-RS" sz="2200" spc="-1" strike="noStrike">
                <a:solidFill>
                  <a:srgbClr val="ffff00"/>
                </a:solidFill>
                <a:latin typeface="Verdana"/>
              </a:rPr>
              <a:t>Greške nastale nepridržavanjem instrukcija za popunjavanje formulara koncepta projekta i stavki u Kontrolnoj listi/Checklist mogu dovesti do odbijanja predloga projek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sr-Latn-RS" sz="2200" spc="-1" strike="noStrike">
                <a:solidFill>
                  <a:srgbClr val="ffff00"/>
                </a:solidFill>
                <a:latin typeface="Verdana"/>
              </a:rPr>
              <a:t>Pojašnjenja će se tražiti samo u slučaju da informacije u formularu nisu dovoljne za objektivnu procenu projekt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Verdana"/>
              </a:rPr>
              <a:t>KONCEPT PROJEK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Slika 11" descr="Graphics2:EUROPEAID:DG-EA_visibility%20Guidelines:3.%20STUDIO:5.%20Images%20HR:flag_2colors.jpg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04920" y="2209680"/>
            <a:ext cx="860076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hr-HR" sz="3200" spc="-1" strike="noStrike">
                <a:solidFill>
                  <a:schemeClr val="hlink"/>
                </a:solidFill>
                <a:latin typeface="Verdana"/>
              </a:rPr>
              <a:t>15</a:t>
            </a:r>
            <a:r>
              <a:rPr b="1" lang="sr-Latn-RS" sz="3200" spc="-1" strike="noStrike">
                <a:solidFill>
                  <a:schemeClr val="hlink"/>
                </a:solidFill>
                <a:latin typeface="Verdana"/>
              </a:rPr>
              <a:t>. </a:t>
            </a:r>
            <a:r>
              <a:rPr b="1" lang="hr-HR" sz="3200" spc="-1" strike="noStrike">
                <a:solidFill>
                  <a:schemeClr val="hlink"/>
                </a:solidFill>
                <a:latin typeface="Verdana"/>
              </a:rPr>
              <a:t>novembar</a:t>
            </a:r>
            <a:r>
              <a:rPr b="1" lang="sr-Latn-RS" sz="3200" spc="-1" strike="noStrike">
                <a:solidFill>
                  <a:schemeClr val="hlink"/>
                </a:solidFill>
                <a:latin typeface="Verdana"/>
              </a:rPr>
              <a:t> 2016. u </a:t>
            </a: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15:00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Prijavu nije moguće podneti nakon navedenog ro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Verdana"/>
              </a:rPr>
              <a:t>ROK ZA PRIJAVU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0880" y="259092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Sva dodatna pitanja mogu da se šalju do </a:t>
            </a:r>
            <a:r>
              <a:rPr b="0" lang="hr-HR" sz="2600" spc="-1" strike="noStrike">
                <a:solidFill>
                  <a:schemeClr val="hlink"/>
                </a:solidFill>
                <a:latin typeface="Verdana"/>
              </a:rPr>
              <a:t>25</a:t>
            </a: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. </a:t>
            </a:r>
            <a:r>
              <a:rPr b="0" lang="hr-HR" sz="2600" spc="-1" strike="noStrike">
                <a:solidFill>
                  <a:schemeClr val="hlink"/>
                </a:solidFill>
                <a:latin typeface="Verdana"/>
              </a:rPr>
              <a:t>oktobra</a:t>
            </a: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  2016. do 16:00h na </a:t>
            </a:r>
            <a:r>
              <a:rPr b="0" lang="sr-Latn-RS" sz="2600" spc="-1" strike="noStrike" u="sng">
                <a:solidFill>
                  <a:schemeClr val="hlink"/>
                </a:solidFill>
                <a:uFillTx/>
                <a:latin typeface="Verdana"/>
                <a:hlinkClick r:id="rId1"/>
              </a:rPr>
              <a:t>DELEGATION-SERBIA-</a:t>
            </a:r>
            <a:r>
              <a:rPr b="0" lang="sr-Latn-RS" sz="2600" spc="-1" strike="noStrike" u="sng">
                <a:solidFill>
                  <a:schemeClr val="hlink"/>
                </a:solidFill>
                <a:uFillTx/>
                <a:latin typeface="Verdana"/>
                <a:hlinkClick r:id="rId2"/>
              </a:rPr>
              <a:t>FCS@eeas.europa.eu</a:t>
            </a: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Odgovori na dodatna pitanja biće objavljeni </a:t>
            </a:r>
            <a:r>
              <a:rPr b="0" lang="hr-HR" sz="2600" spc="-1" strike="noStrike">
                <a:solidFill>
                  <a:schemeClr val="hlink"/>
                </a:solidFill>
                <a:latin typeface="Verdana"/>
              </a:rPr>
              <a:t>4. novembra </a:t>
            </a: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2016. na: </a:t>
            </a:r>
            <a:r>
              <a:rPr b="0" lang="sr-Latn-RS" sz="2600" spc="-1" strike="noStrike" u="sng">
                <a:solidFill>
                  <a:schemeClr val="hlink"/>
                </a:solidFill>
                <a:uFillTx/>
                <a:latin typeface="Verdana"/>
                <a:hlinkClick r:id="rId3"/>
              </a:rPr>
              <a:t>https://webgate.ec.europa.eu/europeaid/online-services/index.cfm?do=publi.welcome</a:t>
            </a: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 i n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	</a:t>
            </a:r>
            <a:r>
              <a:rPr b="0" lang="sr-Latn-RS" sz="2600" spc="-1" strike="noStrike" u="sng">
                <a:solidFill>
                  <a:schemeClr val="hlink"/>
                </a:solidFill>
                <a:uFillTx/>
                <a:latin typeface="Verdana"/>
                <a:hlinkClick r:id="rId4"/>
              </a:rPr>
              <a:t>http://www.europa.rs</a:t>
            </a: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400" spc="-1" strike="noStrike">
                <a:solidFill>
                  <a:schemeClr val="hlink"/>
                </a:solidFill>
                <a:latin typeface="Verdana"/>
              </a:rPr>
              <a:t>DODATNA PITAN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Slika 11" descr="Graphics2:EUROPEAID:DG-EA_visibility%20Guidelines:3.%20STUDIO:5.%20Images%20HR:flag_2colors.jpg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24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Podnose samo oni koji su pozvani da ih dostave nakon ocene/evaluacije koncepta projekt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Aplikant mora da se drži formulara za konkurs i ne sme da menja elemente projektnog koncepta (npr. zamena ko-aplikanta i/ili pridruženog lica, promena dužine trajanje projekta, itd), osim traženog iznosa EU granta u iznosu od 20% u okviru dopuštenog minimalnog i maksimalnog iznosa grant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Verdana"/>
              </a:rPr>
              <a:t>FINALNI PREDLO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2819520"/>
            <a:ext cx="8229240" cy="3504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Cilj 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konkursa</a:t>
            </a: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 je da doprinese unapređenju životnih uslova interno raseljenih i povratnika u procesu readmisije, kao i da doprinese održivom povratku na Koso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400" spc="-1" strike="noStrike">
                <a:solidFill>
                  <a:schemeClr val="hlink"/>
                </a:solidFill>
                <a:latin typeface="Arial"/>
              </a:rPr>
              <a:t>CILJ KONKURS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375400" cy="449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Prati se ista procedura prijave kao i kod projektnog koncepta, uključujući i slanje sledećih dokumenata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Predlog projekta (objavljeni Aneks A2) (eng. Full Application Form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Budžet (eng. Budget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Logička matrica (eng. Logical Framework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vi-VN" sz="2200" spc="-1" strike="noStrike">
                <a:solidFill>
                  <a:srgbClr val="ffff00"/>
                </a:solidFill>
                <a:latin typeface="Verdana"/>
              </a:rPr>
              <a:t>Važno: Kopija izveštaja o poslovanju Aplikanta (Bilans stanja, Bilans uspeha, Statistički aneks) za prethodnu finansijsku godinu potv</a:t>
            </a:r>
            <a:r>
              <a:rPr b="0" lang="sr-Latn-RS" sz="2200" spc="-1" strike="noStrike">
                <a:solidFill>
                  <a:srgbClr val="ffff00"/>
                </a:solidFill>
                <a:latin typeface="Verdana"/>
              </a:rPr>
              <a:t>r</a:t>
            </a:r>
            <a:r>
              <a:rPr b="0" lang="vi-VN" sz="2200" spc="-1" strike="noStrike">
                <a:solidFill>
                  <a:srgbClr val="ffff00"/>
                </a:solidFill>
                <a:latin typeface="Verdana"/>
              </a:rPr>
              <a:t>đenog od strane relevantne poreske uprave </a:t>
            </a:r>
            <a:r>
              <a:rPr b="0" lang="vi-VN" sz="2200" spc="-1" strike="noStrike" u="sng">
                <a:solidFill>
                  <a:srgbClr val="ffff00"/>
                </a:solidFill>
                <a:uFillTx/>
                <a:latin typeface="Verdana"/>
              </a:rPr>
              <a:t>mora biti uneta u PADOR do roka za predaju Finalnog predloga projekt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3600" spc="-1" strike="noStrike">
                <a:solidFill>
                  <a:schemeClr val="hlink"/>
                </a:solidFill>
                <a:latin typeface="Verdana"/>
              </a:rPr>
              <a:t>FINALNI PREDL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2819520"/>
            <a:ext cx="8229240" cy="297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sr-Latn-RS" sz="2800" spc="-1" strike="noStrike">
                <a:solidFill>
                  <a:schemeClr val="hlink"/>
                </a:solidFill>
                <a:latin typeface="Verdana"/>
              </a:rPr>
              <a:t>Korak 1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: Otvaranje i administrativna provera i evaluacija projektnih koncep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sr-Latn-RS" sz="2800" spc="-1" strike="noStrike">
                <a:solidFill>
                  <a:schemeClr val="hlink"/>
                </a:solidFill>
                <a:latin typeface="Verdana"/>
              </a:rPr>
              <a:t>Korak 2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: Evaluacija finalnog predlo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sr-Latn-RS" sz="2800" spc="-1" strike="noStrike">
                <a:solidFill>
                  <a:schemeClr val="hlink"/>
                </a:solidFill>
                <a:latin typeface="Verdana"/>
              </a:rPr>
              <a:t>Korak 3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: Provera kvalifikovanosti aplikanata, ko-aplikanata i pridruženih lic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400" spc="-1" strike="noStrike">
                <a:solidFill>
                  <a:schemeClr val="hlink"/>
                </a:solidFill>
                <a:latin typeface="Verdana"/>
              </a:rPr>
              <a:t>PROCES EVALUACIJ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24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pl-PL" sz="2800" spc="-1" strike="noStrike">
                <a:solidFill>
                  <a:schemeClr val="hlink"/>
                </a:solidFill>
                <a:latin typeface="Verdana"/>
              </a:rPr>
              <a:t>Koncepti projekata, koji su prošli administrativnu proveru,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 se rangiraju na bodovnoj listi od najbolje do najslabije ocenjenog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Najviši broj bodova je 50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Projekti koji su dobili više od 30 bodova biće pozvani u drugi krug evaluacije ukoliko je njihovo mesto na listi iznad praga od duplo većeg iznosa predviđenog konkurs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400" spc="-1" strike="noStrike">
                <a:solidFill>
                  <a:schemeClr val="hlink"/>
                </a:solidFill>
                <a:latin typeface="Verdana"/>
              </a:rPr>
              <a:t>Korak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240" cy="441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8000"/>
          </a:bodyPr>
          <a:p>
            <a:pPr marL="314640" indent="-31464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Evaluacija finalnih predloga koji su prošli administrativnu proveru, uključuj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1480" indent="-262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Kriterijume selekcije aplikanata, ko-aplikanata i pridruženih lica  - operativni i finansijski kapacitet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1480" indent="-262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Kriterijume za procenu kvaliteta prijave – delotvornost i izvodljivost akcije, učinak i održivost akcije te budžet i ekonomičnost akcij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4640" indent="-31464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Najviši broj bodova je 100, a uključuje i prenos bodova iz koncepta projekta koji se odnose na relevantnost predlo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4640" indent="-31464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Priprema rang liste najbolje ocenjenih projekata u skladu sa dostupnim sredstvima, kao i rezervna lis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400" spc="-1" strike="noStrike">
                <a:solidFill>
                  <a:schemeClr val="hlink"/>
                </a:solidFill>
                <a:latin typeface="Verdana"/>
              </a:rPr>
              <a:t>Korak 2</a:t>
            </a:r>
            <a:r>
              <a:rPr b="0" lang="sr-Latn-RS" sz="4400" spc="-1" strike="noStrike">
                <a:solidFill>
                  <a:schemeClr val="hlink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496000" cy="471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Provera kvalifikovanosti aplikanata, ko-aplikanata i pridruženih lica na osnovu tražene dokumentacije koja treba da bude dostupna kroz PADOR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Statut ili osnivački akt aplikanta, ko-aplikanta i pridruženih lica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Formular o pravnom statusu za aplikanta i ko-aplikant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Finansijski identifikacioni formular (FIF) za aplikant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3600" spc="-1" strike="noStrike">
                <a:solidFill>
                  <a:schemeClr val="hlink"/>
                </a:solidFill>
                <a:latin typeface="Verdana"/>
              </a:rPr>
              <a:t>Korak 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533520" y="3200400"/>
            <a:ext cx="8229240" cy="2793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Svi aplikanti će u pisanom obliku biti obavešteni o rezultatima konkurs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Inidikativni raspored sprovođenja svih faza konkursa nalazi se u okviru Uputstva za aplikant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chemeClr val="hlink"/>
                </a:solidFill>
                <a:latin typeface="Verdana"/>
              </a:rPr>
              <a:t>ODLUKA O DODELI GRAN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638920" cy="3962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Dokumenti koji treba da se popu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A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Formular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i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 za prijavu projekta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sl-SI" sz="2000" spc="-1" strike="noStrike">
                <a:solidFill>
                  <a:schemeClr val="hlink"/>
                </a:solidFill>
                <a:latin typeface="Verdana"/>
              </a:rPr>
              <a:t>Aneks A1 Formular - Koncept projekta (Concept Not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sl-SI" sz="2000" spc="-1" strike="noStrike">
                <a:solidFill>
                  <a:schemeClr val="hlink"/>
                </a:solidFill>
                <a:latin typeface="Verdana"/>
              </a:rPr>
              <a:t>Aneks A2 Formular – Finalni predlog (Full application 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B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Budž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C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Logička matr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D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Formular o pravnom statu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E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Finansijski identifikacioni formula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F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PADOR formular (</a:t>
            </a:r>
            <a:r>
              <a:rPr b="0" i="1" lang="en-GB" sz="2400" spc="-1" strike="noStrike">
                <a:solidFill>
                  <a:schemeClr val="hlink"/>
                </a:solidFill>
                <a:latin typeface="Verdana"/>
              </a:rPr>
              <a:t>eng. off Line Form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Lista aneksa konkur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86007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Dokumenti za informisanje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chemeClr val="hlink"/>
                </a:solidFill>
                <a:latin typeface="Verdana"/>
              </a:rPr>
              <a:t>Aneks G:</a:t>
            </a: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 Standardni grant ugovor sa aneksim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hlink"/>
                </a:solidFill>
                <a:latin typeface="Verdana"/>
              </a:rPr>
              <a:t>Aneks H:</a:t>
            </a: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 Iznosi dnevnica </a:t>
            </a:r>
            <a:r>
              <a:rPr b="0" lang="en-US" sz="2000" spc="-1" strike="noStrike" u="sng">
                <a:solidFill>
                  <a:schemeClr val="hlink"/>
                </a:solidFill>
                <a:uFillTx/>
                <a:latin typeface="Verdana"/>
                <a:hlinkClick r:id="rId1"/>
              </a:rPr>
              <a:t>http://ec.europa.eu/europeaid/work/procedures/implementation/index_en.htm</a:t>
            </a: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Aneks J : 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Informacija o poreskom re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žimu za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grant 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ugovo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hlink"/>
                </a:solidFill>
                <a:latin typeface="Verdana"/>
              </a:rPr>
              <a:t>Aneks K: </a:t>
            </a: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Uputstva i lista za proveru za procenu budžeta i opcije jednostavnih troškov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hr-HR" sz="2000" spc="-1" strike="noStrike">
                <a:solidFill>
                  <a:schemeClr val="hlink"/>
                </a:solidFill>
                <a:latin typeface="Verdana"/>
              </a:rPr>
              <a:t>Aneks L i M: 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PROSPECT vodič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Lista aneksa konkur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Slika 11" descr="Graphics2:EUROPEAID:DG-EA_visibility%20Guidelines:3.%20STUDIO:5.%20Images%20HR:flag_2colors.jpg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86007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Korisni linkovi 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Project Cycle Management Guidelines 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http://ec.europa.eu/europeaid/aid-delivery-methods-project-cycle-management-guidelines-vol-1_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The implementation of grant contracts -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Users' Guid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http://ec.europa.eu/europeaid/companion/document.do?nodeNumber=19&amp;locale=e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Financial Toolkit</a:t>
            </a: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http://ec.europa.eu/europeaid/funding/procedures-beneficiary-countries-and-partners/financial-management-toolkit_e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Lista aneksa konkur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2400" spc="-1" strike="noStrike">
                <a:solidFill>
                  <a:schemeClr val="hlink"/>
                </a:solidFill>
                <a:latin typeface="Verdana"/>
                <a:ea typeface="Verdana"/>
              </a:rPr>
              <a:t>FINANSIJSKI OKVIR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Verdana"/>
                <a:ea typeface="Verdana"/>
              </a:rPr>
              <a:t>Bud</a:t>
            </a:r>
            <a:r>
              <a:rPr b="1" lang="sr-Latn-RS" sz="2400" spc="-1" strike="noStrike">
                <a:solidFill>
                  <a:srgbClr val="ffff00"/>
                </a:solidFill>
                <a:latin typeface="Verdana"/>
                <a:ea typeface="Verdana"/>
              </a:rPr>
              <a:t>žet 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  <a:ea typeface="Verdana"/>
              </a:rPr>
              <a:t>konkursa</a:t>
            </a:r>
            <a:r>
              <a:rPr b="1" lang="sr-Latn-RS" sz="2400" spc="-1" strike="noStrike">
                <a:solidFill>
                  <a:srgbClr val="ffff00"/>
                </a:solidFill>
                <a:latin typeface="Verdana"/>
                <a:ea typeface="Verdana"/>
              </a:rPr>
              <a:t> iznosi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  <a:ea typeface="Verdana"/>
              </a:rPr>
              <a:t> </a:t>
            </a:r>
            <a:r>
              <a:rPr b="1" lang="hr-HR" sz="2400" spc="-1" strike="noStrike">
                <a:solidFill>
                  <a:srgbClr val="ffff00"/>
                </a:solidFill>
                <a:latin typeface="Verdana"/>
                <a:ea typeface="Verdana"/>
              </a:rPr>
              <a:t>5. </a:t>
            </a:r>
            <a:r>
              <a:rPr b="1" lang="sr-Latn-CS" sz="2400" spc="-1" strike="noStrike">
                <a:solidFill>
                  <a:srgbClr val="ffff00"/>
                </a:solidFill>
                <a:latin typeface="Verdana"/>
                <a:ea typeface="Verdana"/>
              </a:rPr>
              <a:t>60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  <a:ea typeface="Verdana"/>
              </a:rPr>
              <a:t>0.000 evra</a:t>
            </a:r>
            <a:br>
              <a:rPr sz="2400"/>
            </a:br>
            <a:r>
              <a:rPr b="0" lang="sr-Latn-RS" sz="2400" spc="-1" strike="noStrike">
                <a:solidFill>
                  <a:srgbClr val="ffffcc"/>
                </a:solidFill>
                <a:latin typeface="Verdana"/>
                <a:ea typeface="Verdana"/>
              </a:rPr>
              <a:t>Konkurs je podeljen na 2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  <a:ea typeface="Verdana"/>
              </a:rPr>
              <a:t>l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LOT 1 -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3, 150, 000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unapređenje uslova života interno raseljenih i povratnika u procesu readmisije u Srbi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LOT 2 -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2, 500, 000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odrška održivom povratk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Veličina grantova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r-Latn-RS" sz="2400" spc="-1" strike="noStrike">
                <a:solidFill>
                  <a:srgbClr val="ffff00"/>
                </a:solidFill>
                <a:latin typeface="Verdana"/>
              </a:rPr>
              <a:t>LOT 1</a:t>
            </a:r>
            <a:r>
              <a:rPr b="1" lang="sr-Latn-R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r-Latn-RS" sz="2400" spc="-1" strike="noStrike">
                <a:solidFill>
                  <a:srgbClr val="ffff00"/>
                </a:solidFill>
                <a:latin typeface="Verdana"/>
              </a:rPr>
              <a:t>    LOT 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in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50.000</a:t>
            </a: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evra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in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00.000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ev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a</a:t>
            </a:r>
            <a:r>
              <a:rPr b="0" lang="sr-Latn-CS" sz="2000" spc="-1" strike="noStrike">
                <a:solidFill>
                  <a:srgbClr val="ffffcc"/>
                </a:solidFill>
                <a:latin typeface="Verdana"/>
              </a:rPr>
              <a:t>ks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.000</a:t>
            </a: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evra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a</a:t>
            </a:r>
            <a:r>
              <a:rPr b="0" lang="sr-Latn-CS" sz="2000" spc="-1" strike="noStrike">
                <a:solidFill>
                  <a:srgbClr val="ffffcc"/>
                </a:solidFill>
                <a:latin typeface="Verdana"/>
              </a:rPr>
              <a:t>ks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00.000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ev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Procenat ukupnih prihvatljivih tro</a:t>
            </a: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škova </a:t>
            </a:r>
            <a:r>
              <a:rPr b="0" lang="sr-Latn-RS" sz="2400" spc="-1" strike="noStrike" u="sng">
                <a:solidFill>
                  <a:srgbClr val="ffffcc"/>
                </a:solidFill>
                <a:uFillTx/>
                <a:latin typeface="Verdana"/>
              </a:rPr>
              <a:t>za oba 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Verdana"/>
              </a:rPr>
              <a:t>lota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in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65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% ukupnih troškova projek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aks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9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5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% ukupnih troškova projek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240" cy="2819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Glavni akteri koji mogu da učestvuju na konkursu su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plikant 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(</a:t>
            </a:r>
            <a:r>
              <a:rPr b="0" i="1" lang="en-GB" sz="2400" spc="-1" strike="noStrike">
                <a:solidFill>
                  <a:schemeClr val="hlink"/>
                </a:solidFill>
                <a:latin typeface="Verdana"/>
              </a:rPr>
              <a:t>eng. applicant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) – podnosilac predloga projek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Ko-aplikant 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(</a:t>
            </a:r>
            <a:r>
              <a:rPr b="0" i="1" lang="en-GB" sz="2400" spc="-1" strike="noStrike">
                <a:solidFill>
                  <a:schemeClr val="hlink"/>
                </a:solidFill>
                <a:latin typeface="Verdana"/>
              </a:rPr>
              <a:t>eng. co-applicant/s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Pridruženo lice 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(eng. affiliated entity/i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380880" y="182880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KO MOŽE DA UČESTVU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524440" cy="449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Da bi ispuni</a:t>
            </a:r>
            <a:r>
              <a:rPr b="0" lang="sr-Latn-CS" sz="2400" spc="-1" strike="noStrike">
                <a:solidFill>
                  <a:schemeClr val="hlink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 uslove za prijavu, mora da bud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Pravno l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CS" sz="2400" spc="-1" strike="noStrike">
                <a:solidFill>
                  <a:schemeClr val="hlink"/>
                </a:solidFill>
                <a:latin typeface="Verdana"/>
              </a:rPr>
              <a:t>Neprofitnog karakte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CS" sz="2400" spc="-1" strike="noStrike">
                <a:solidFill>
                  <a:schemeClr val="hlink"/>
                </a:solidFill>
                <a:latin typeface="Verdana"/>
              </a:rPr>
              <a:t>Organizacija civilnog društ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v</a:t>
            </a:r>
            <a:r>
              <a:rPr b="0" lang="sr-Latn-CS" sz="2400" spc="-1" strike="noStrike">
                <a:solidFill>
                  <a:schemeClr val="hlink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Osnovan u jednoj od zemalja članica EU ili jednoj od zemalja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koje su obuhvaćene Članom 10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IPA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regulative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D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irektno odgovor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a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n za pripremu i upravljanje projektom zajedno sa ko-aplikantom i pridruženim licem - ne može da deluje kao posredn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U realizaciji projekta </a:t>
            </a:r>
            <a:r>
              <a:rPr b="0" lang="hr-HR" sz="2400" spc="-1" strike="noStrike" u="sng">
                <a:solidFill>
                  <a:schemeClr val="hlink"/>
                </a:solidFill>
                <a:uFillTx/>
                <a:latin typeface="Verdana"/>
              </a:rPr>
              <a:t>m</a:t>
            </a:r>
            <a:r>
              <a:rPr b="0" lang="en-US" sz="2400" spc="-1" strike="noStrike" u="sng">
                <a:solidFill>
                  <a:schemeClr val="hlink"/>
                </a:solidFill>
                <a:uFillTx/>
                <a:latin typeface="Verdana"/>
              </a:rPr>
              <a:t>o</a:t>
            </a:r>
            <a:r>
              <a:rPr b="0" lang="hr-HR" sz="2400" spc="-1" strike="noStrike" u="sng">
                <a:solidFill>
                  <a:schemeClr val="hlink"/>
                </a:solidFill>
                <a:uFillTx/>
                <a:latin typeface="Verdana"/>
              </a:rPr>
              <a:t>ra</a:t>
            </a:r>
            <a:r>
              <a:rPr b="0" lang="en-US" sz="2400" spc="-1" strike="noStrike" u="sng">
                <a:solidFill>
                  <a:schemeClr val="hlink"/>
                </a:solidFill>
                <a:uFillTx/>
                <a:latin typeface="Verdana"/>
              </a:rPr>
              <a:t> da učestvuje sa </a:t>
            </a:r>
            <a:r>
              <a:rPr b="0" lang="hr-HR" sz="2400" spc="-1" strike="noStrike" u="sng">
                <a:solidFill>
                  <a:schemeClr val="hlink"/>
                </a:solidFill>
                <a:uFillTx/>
                <a:latin typeface="Verdana"/>
              </a:rPr>
              <a:t>najmanje jednim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ko-aplikant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o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APLIK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524440" cy="3580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6000"/>
          </a:bodyPr>
          <a:p>
            <a:pPr marL="355680" indent="-3556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U slučaju da aplikant nije  organizacija civilnog društva osnovana/registrovana u Srbiji, </a:t>
            </a:r>
            <a:r>
              <a:rPr b="1" lang="hr-HR" sz="2800" spc="-1" strike="noStrike">
                <a:solidFill>
                  <a:schemeClr val="hlink"/>
                </a:solidFill>
                <a:latin typeface="Verdana"/>
              </a:rPr>
              <a:t>partnerstvo sa minimum jednom organizacijom iz Srbije je obavezno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5680" indent="-3556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Aplikant postaje korisnik identifikovan kao koordinator. </a:t>
            </a:r>
            <a:r>
              <a:rPr b="1" lang="en-US" sz="2800" spc="-1" strike="noStrike">
                <a:solidFill>
                  <a:schemeClr val="hlink"/>
                </a:solidFill>
                <a:latin typeface="Verdana"/>
              </a:rPr>
              <a:t>Koordinato</a:t>
            </a: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r je glavni sagovornik sa ugovornim telom.  On predstavlja i deluje u ime svih korisnika i koordinira sprovođenje projek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APLIK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lobe">
  <a:themeElements>
    <a:clrScheme name="Globe 3">
      <a:dk1>
        <a:srgbClr val="003b76"/>
      </a:dk1>
      <a:lt1>
        <a:srgbClr val="ffffff"/>
      </a:lt1>
      <a:dk2>
        <a:srgbClr val="0066cc"/>
      </a:dk2>
      <a:lt2>
        <a:srgbClr val="ccecff"/>
      </a:lt2>
      <a:accent1>
        <a:srgbClr val="33cccc"/>
      </a:accent1>
      <a:accent2>
        <a:srgbClr val="66ccff"/>
      </a:accent2>
      <a:accent3>
        <a:srgbClr val="aab8e2"/>
      </a:accent3>
      <a:accent4>
        <a:srgbClr val="dadada"/>
      </a:accent4>
      <a:accent5>
        <a:srgbClr val="ade2e2"/>
      </a:accent5>
      <a:accent6>
        <a:srgbClr val="5cb9e7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lobe">
  <a:themeElements>
    <a:clrScheme name="Globe 3">
      <a:dk1>
        <a:srgbClr val="003b76"/>
      </a:dk1>
      <a:lt1>
        <a:srgbClr val="ffffff"/>
      </a:lt1>
      <a:dk2>
        <a:srgbClr val="0066cc"/>
      </a:dk2>
      <a:lt2>
        <a:srgbClr val="ccecff"/>
      </a:lt2>
      <a:accent1>
        <a:srgbClr val="33cccc"/>
      </a:accent1>
      <a:accent2>
        <a:srgbClr val="66ccff"/>
      </a:accent2>
      <a:accent3>
        <a:srgbClr val="aab8e2"/>
      </a:accent3>
      <a:accent4>
        <a:srgbClr val="dadada"/>
      </a:accent4>
      <a:accent5>
        <a:srgbClr val="ade2e2"/>
      </a:accent5>
      <a:accent6>
        <a:srgbClr val="5cb9e7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lobe">
  <a:themeElements>
    <a:clrScheme name="Globe 3">
      <a:dk1>
        <a:srgbClr val="003b76"/>
      </a:dk1>
      <a:lt1>
        <a:srgbClr val="ffffff"/>
      </a:lt1>
      <a:dk2>
        <a:srgbClr val="0066cc"/>
      </a:dk2>
      <a:lt2>
        <a:srgbClr val="ccecff"/>
      </a:lt2>
      <a:accent1>
        <a:srgbClr val="33cccc"/>
      </a:accent1>
      <a:accent2>
        <a:srgbClr val="66ccff"/>
      </a:accent2>
      <a:accent3>
        <a:srgbClr val="aab8e2"/>
      </a:accent3>
      <a:accent4>
        <a:srgbClr val="dadada"/>
      </a:accent4>
      <a:accent5>
        <a:srgbClr val="ade2e2"/>
      </a:accent5>
      <a:accent6>
        <a:srgbClr val="5cb9e7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66cc"/>
      </a:dk2>
      <a:lt2>
        <a:srgbClr val="ccecff"/>
      </a:lt2>
      <a:accent1>
        <a:srgbClr val="33cccc"/>
      </a:accent1>
      <a:accent2>
        <a:srgbClr val="66ccff"/>
      </a:accent2>
      <a:accent3>
        <a:srgbClr val="aab8e2"/>
      </a:accent3>
      <a:accent4>
        <a:srgbClr val="dadada"/>
      </a:accent4>
      <a:accent5>
        <a:srgbClr val="ade2e2"/>
      </a:accent5>
      <a:accent6>
        <a:srgbClr val="5cb9e7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  <Words>2627</Words>
  <Paragraphs>3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7:05:30Z</dcterms:created>
  <dc:creator>Svetlana.DJUKIC@eeas.europa.eu</dc:creator>
  <dc:description/>
  <dc:language>en-US</dc:language>
  <cp:lastModifiedBy>unknown</cp:lastModifiedBy>
  <cp:lastPrinted>2016-04-14T08:53:50Z</cp:lastPrinted>
  <dcterms:modified xsi:type="dcterms:W3CDTF">2016-10-03T13:58:37Z</dcterms:modified>
  <cp:revision>297</cp:revision>
  <dc:subject/>
  <dc:title>PowerPointova prezentacij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48</vt:r8>
  </property>
</Properties>
</file>